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5F8-B433-4FAD-BE6A-C0FC31E9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6F0-A9B8-4FF1-8B5F-B21FB98B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1E8-9F92-40DF-943B-1AA16B3E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B2F-310D-4CBC-861B-A4129BC1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766-B850-48C1-9D36-E74EBB1F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7F9-82E2-4316-A81B-4D1EE66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56C-838C-43EE-935C-7B6C7330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8C6-ED27-4AC9-87D8-92B56FB0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D56-07E8-45DA-9D0E-5E49488E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4DD-EB29-4162-9DF7-B7C4CA1F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577-2551-479A-95E8-565FF311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D54-914C-49EA-ABD9-D70FB48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579D-E2E9-4A61-9786-28BFEA112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Research Tell Us about Adult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yce, B., Showers B. (198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 Achievement Through Staff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Plains, NY: Longman, In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93800" y="1096920"/>
            <a:ext cx="7557840" cy="4664160"/>
            <a:chOff x="793800" y="1096920"/>
            <a:chExt cx="7557840" cy="4664160"/>
          </a:xfrm>
        </p:grpSpPr>
        <p:grpSp>
          <p:nvGrpSpPr>
            <p:cNvPr id="44" name=""/>
            <p:cNvGrpSpPr/>
            <p:nvPr/>
          </p:nvGrpSpPr>
          <p:grpSpPr>
            <a:xfrm>
              <a:off x="798480" y="1101600"/>
              <a:ext cx="7548480" cy="4654440"/>
              <a:chOff x="798480" y="1101600"/>
              <a:chExt cx="7548480" cy="465444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798480" y="1101600"/>
                <a:ext cx="2185920" cy="1065240"/>
                <a:chOff x="798480" y="1101600"/>
                <a:chExt cx="2185920" cy="10652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866880" y="1101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98480" y="1101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2984400" y="1101600"/>
                <a:ext cx="1812960" cy="1065240"/>
                <a:chOff x="2984400" y="1101600"/>
                <a:chExt cx="1812960" cy="10652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052800" y="1101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984400" y="1101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797360" y="1101600"/>
                <a:ext cx="1584360" cy="1065240"/>
                <a:chOff x="4797360" y="1101600"/>
                <a:chExt cx="1584360" cy="10652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865760" y="1101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797360" y="1101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6381720" y="1101600"/>
                <a:ext cx="1965240" cy="1065240"/>
                <a:chOff x="6381720" y="1101600"/>
                <a:chExt cx="1965240" cy="10652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6450120" y="1101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381720" y="1101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798480" y="2166840"/>
                <a:ext cx="2185920" cy="942840"/>
                <a:chOff x="798480" y="2166840"/>
                <a:chExt cx="2185920" cy="9428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866880" y="216684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98480" y="216684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984400" y="2166840"/>
                <a:ext cx="1812960" cy="942840"/>
                <a:chOff x="2984400" y="2166840"/>
                <a:chExt cx="1812960" cy="9428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052800" y="216684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%?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984400" y="216684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797360" y="2166840"/>
                <a:ext cx="1584360" cy="942840"/>
                <a:chOff x="4797360" y="2166840"/>
                <a:chExt cx="1584360" cy="9428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865760" y="216684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797360" y="216684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381720" y="2166840"/>
                <a:ext cx="1965240" cy="942840"/>
                <a:chOff x="6381720" y="2166840"/>
                <a:chExt cx="1965240" cy="942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450120" y="216684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381720" y="216684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798480" y="3109680"/>
                <a:ext cx="2185920" cy="943200"/>
                <a:chOff x="798480" y="3109680"/>
                <a:chExt cx="2185920" cy="9432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66880" y="31096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98480" y="31096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984400" y="3109680"/>
                <a:ext cx="1812960" cy="943200"/>
                <a:chOff x="2984400" y="3109680"/>
                <a:chExt cx="1812960" cy="9432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052800" y="31096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984400" y="31096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797360" y="3109680"/>
                <a:ext cx="1584360" cy="943200"/>
                <a:chOff x="4797360" y="3109680"/>
                <a:chExt cx="1584360" cy="943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865760" y="31096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797360" y="31096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381720" y="3109680"/>
                <a:ext cx="1965240" cy="943200"/>
                <a:chOff x="6381720" y="3109680"/>
                <a:chExt cx="1965240" cy="943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450120" y="31096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381720" y="31096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98480" y="4052880"/>
                <a:ext cx="2185920" cy="942840"/>
                <a:chOff x="798480" y="4052880"/>
                <a:chExt cx="2185920" cy="942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866880" y="40528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98480" y="40528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984400" y="4052880"/>
                <a:ext cx="1812960" cy="942840"/>
                <a:chOff x="2984400" y="4052880"/>
                <a:chExt cx="1812960" cy="942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52800" y="40528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984400" y="40528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797360" y="4052880"/>
                <a:ext cx="1584360" cy="942840"/>
                <a:chOff x="4797360" y="4052880"/>
                <a:chExt cx="1584360" cy="942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865760" y="40528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797360" y="40528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381720" y="4052880"/>
                <a:ext cx="1965240" cy="942840"/>
                <a:chOff x="6381720" y="4052880"/>
                <a:chExt cx="1965240" cy="942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450120" y="40528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81720" y="40528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98480" y="4995720"/>
                <a:ext cx="2185920" cy="760320"/>
                <a:chOff x="798480" y="4995720"/>
                <a:chExt cx="2185920" cy="760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66880" y="49957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98480" y="49957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84400" y="4995720"/>
                <a:ext cx="1812960" cy="760320"/>
                <a:chOff x="2984400" y="4995720"/>
                <a:chExt cx="1812960" cy="760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052800" y="49957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84400" y="49957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797360" y="4995720"/>
                <a:ext cx="1584360" cy="760320"/>
                <a:chOff x="4797360" y="4995720"/>
                <a:chExt cx="1584360" cy="760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65760" y="49957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97360" y="49957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381720" y="4995720"/>
                <a:ext cx="1965240" cy="760320"/>
                <a:chOff x="6381720" y="4995720"/>
                <a:chExt cx="1965240" cy="7603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450120" y="49957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381720" y="49957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793800" y="1096920"/>
              <a:ext cx="7557840" cy="46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93800" y="1004760"/>
            <a:ext cx="7557840" cy="4849560"/>
            <a:chOff x="793800" y="1004760"/>
            <a:chExt cx="7557840" cy="4849560"/>
          </a:xfrm>
        </p:grpSpPr>
        <p:grpSp>
          <p:nvGrpSpPr>
            <p:cNvPr id="107" name=""/>
            <p:cNvGrpSpPr/>
            <p:nvPr/>
          </p:nvGrpSpPr>
          <p:grpSpPr>
            <a:xfrm>
              <a:off x="798480" y="1009440"/>
              <a:ext cx="7548480" cy="4840200"/>
              <a:chOff x="798480" y="1009440"/>
              <a:chExt cx="7548480" cy="48402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798480" y="1009440"/>
                <a:ext cx="2185920" cy="1065240"/>
                <a:chOff x="798480" y="1009440"/>
                <a:chExt cx="2185920" cy="1065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866880" y="100944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8480" y="100944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984400" y="1009440"/>
                <a:ext cx="1812960" cy="1065240"/>
                <a:chOff x="2984400" y="1009440"/>
                <a:chExt cx="1812960" cy="1065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52800" y="100944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84400" y="100944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797360" y="1009440"/>
                <a:ext cx="1584360" cy="1065240"/>
                <a:chOff x="4797360" y="1009440"/>
                <a:chExt cx="1584360" cy="1065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865760" y="100944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797360" y="100944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381720" y="1009440"/>
                <a:ext cx="1965240" cy="1065240"/>
                <a:chOff x="6381720" y="1009440"/>
                <a:chExt cx="1965240" cy="1065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450120" y="100944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381720" y="100944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98480" y="2074680"/>
                <a:ext cx="2185920" cy="1128600"/>
                <a:chOff x="798480" y="2074680"/>
                <a:chExt cx="2185920" cy="11286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66880" y="207468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8480" y="207468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984400" y="2074680"/>
                <a:ext cx="1812960" cy="1128600"/>
                <a:chOff x="2984400" y="2074680"/>
                <a:chExt cx="1812960" cy="11286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52800" y="207468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984400" y="207468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797360" y="2074680"/>
                <a:ext cx="1584360" cy="1128600"/>
                <a:chOff x="4797360" y="2074680"/>
                <a:chExt cx="1584360" cy="11286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865760" y="207468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97360" y="207468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381720" y="2074680"/>
                <a:ext cx="1965240" cy="1128600"/>
                <a:chOff x="6381720" y="2074680"/>
                <a:chExt cx="1965240" cy="11286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450120" y="207468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381720" y="207468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98480" y="3203280"/>
                <a:ext cx="2185920" cy="943200"/>
                <a:chOff x="798480" y="3203280"/>
                <a:chExt cx="2185920" cy="943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866880" y="320328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8480" y="320328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984400" y="3203280"/>
                <a:ext cx="1812960" cy="943200"/>
                <a:chOff x="2984400" y="3203280"/>
                <a:chExt cx="1812960" cy="943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52800" y="320328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984400" y="320328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797360" y="3203280"/>
                <a:ext cx="1584360" cy="943200"/>
                <a:chOff x="4797360" y="3203280"/>
                <a:chExt cx="1584360" cy="943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865760" y="320328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797360" y="320328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381720" y="3203280"/>
                <a:ext cx="1965240" cy="943200"/>
                <a:chOff x="6381720" y="3203280"/>
                <a:chExt cx="1965240" cy="943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450120" y="320328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81720" y="320328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8480" y="4146480"/>
                <a:ext cx="2185920" cy="942840"/>
                <a:chOff x="798480" y="4146480"/>
                <a:chExt cx="2185920" cy="942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66880" y="4146480"/>
                  <a:ext cx="204948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8480" y="4146480"/>
                  <a:ext cx="218592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984400" y="4146480"/>
                <a:ext cx="1812960" cy="942840"/>
                <a:chOff x="2984400" y="4146480"/>
                <a:chExt cx="1812960" cy="942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052800" y="4146480"/>
                  <a:ext cx="16761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84400" y="4146480"/>
                  <a:ext cx="18129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797360" y="4146480"/>
                <a:ext cx="1584360" cy="942840"/>
                <a:chOff x="4797360" y="4146480"/>
                <a:chExt cx="1584360" cy="942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865760" y="4146480"/>
                  <a:ext cx="144756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97360" y="4146480"/>
                  <a:ext cx="158436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81720" y="4146480"/>
                <a:ext cx="1965240" cy="942840"/>
                <a:chOff x="6381720" y="4146480"/>
                <a:chExt cx="1965240" cy="942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50120" y="4146480"/>
                  <a:ext cx="1828800" cy="9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81720" y="4146480"/>
                  <a:ext cx="1965240" cy="94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98480" y="5089320"/>
                <a:ext cx="2185920" cy="760320"/>
                <a:chOff x="798480" y="5089320"/>
                <a:chExt cx="2185920" cy="7603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866880" y="50893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98480" y="50893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984400" y="5089320"/>
                <a:ext cx="1812960" cy="760320"/>
                <a:chOff x="2984400" y="5089320"/>
                <a:chExt cx="1812960" cy="760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052800" y="50893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84400" y="50893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797360" y="5089320"/>
                <a:ext cx="1584360" cy="760320"/>
                <a:chOff x="4797360" y="5089320"/>
                <a:chExt cx="1584360" cy="760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865760" y="50893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97360" y="50893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81720" y="5089320"/>
                <a:ext cx="1965240" cy="760320"/>
                <a:chOff x="6381720" y="5089320"/>
                <a:chExt cx="1965240" cy="7603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50120" y="50893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81720" y="50893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793800" y="1004760"/>
              <a:ext cx="7557840" cy="484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93800" y="1003320"/>
            <a:ext cx="7557840" cy="4852800"/>
            <a:chOff x="793800" y="1003320"/>
            <a:chExt cx="7557840" cy="4852800"/>
          </a:xfrm>
        </p:grpSpPr>
        <p:grpSp>
          <p:nvGrpSpPr>
            <p:cNvPr id="170" name=""/>
            <p:cNvGrpSpPr/>
            <p:nvPr/>
          </p:nvGrpSpPr>
          <p:grpSpPr>
            <a:xfrm>
              <a:off x="798480" y="1008000"/>
              <a:ext cx="7548480" cy="4843440"/>
              <a:chOff x="798480" y="1008000"/>
              <a:chExt cx="7548480" cy="48434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798480" y="1008000"/>
                <a:ext cx="2185920" cy="1065240"/>
                <a:chOff x="798480" y="1008000"/>
                <a:chExt cx="2185920" cy="1065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66880" y="10080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8480" y="10080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984400" y="1008000"/>
                <a:ext cx="1812960" cy="1065240"/>
                <a:chOff x="2984400" y="1008000"/>
                <a:chExt cx="1812960" cy="1065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052800" y="10080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984400" y="10080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97360" y="1008000"/>
                <a:ext cx="1584360" cy="1065240"/>
                <a:chOff x="4797360" y="1008000"/>
                <a:chExt cx="1584360" cy="1065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865760" y="10080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97360" y="10080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381720" y="1008000"/>
                <a:ext cx="1965240" cy="1065240"/>
                <a:chOff x="6381720" y="1008000"/>
                <a:chExt cx="1965240" cy="1065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450120" y="10080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381720" y="10080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798480" y="2073240"/>
                <a:ext cx="2185920" cy="1128600"/>
                <a:chOff x="798480" y="2073240"/>
                <a:chExt cx="2185920" cy="1128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66880" y="20732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98480" y="20732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984400" y="2073240"/>
                <a:ext cx="1812960" cy="1128600"/>
                <a:chOff x="2984400" y="2073240"/>
                <a:chExt cx="1812960" cy="1128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52800" y="20732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84400" y="20732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797360" y="2073240"/>
                <a:ext cx="1584360" cy="1128600"/>
                <a:chOff x="4797360" y="2073240"/>
                <a:chExt cx="1584360" cy="1128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65760" y="20732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97360" y="20732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381720" y="2073240"/>
                <a:ext cx="1965240" cy="1128600"/>
                <a:chOff x="6381720" y="2073240"/>
                <a:chExt cx="1965240" cy="1128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450120" y="20732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381720" y="20732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98480" y="3201840"/>
                <a:ext cx="2185920" cy="946080"/>
                <a:chOff x="798480" y="3201840"/>
                <a:chExt cx="2185920" cy="9460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866880" y="32018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98480" y="32018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984400" y="3201840"/>
                <a:ext cx="1812960" cy="946080"/>
                <a:chOff x="2984400" y="3201840"/>
                <a:chExt cx="1812960" cy="94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052800" y="32018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984400" y="32018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797360" y="3201840"/>
                <a:ext cx="1584360" cy="946080"/>
                <a:chOff x="4797360" y="3201840"/>
                <a:chExt cx="1584360" cy="9460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865760" y="32018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97360" y="32018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381720" y="3201840"/>
                <a:ext cx="1965240" cy="946080"/>
                <a:chOff x="6381720" y="3201840"/>
                <a:chExt cx="1965240" cy="946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450120" y="32018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381720" y="32018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98480" y="4147920"/>
                <a:ext cx="2185920" cy="943200"/>
                <a:chOff x="798480" y="4147920"/>
                <a:chExt cx="2185920" cy="943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66880" y="4147920"/>
                  <a:ext cx="204948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98480" y="4147920"/>
                  <a:ext cx="218592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984400" y="4147920"/>
                <a:ext cx="1812960" cy="943200"/>
                <a:chOff x="2984400" y="4147920"/>
                <a:chExt cx="1812960" cy="943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052800" y="4147920"/>
                  <a:ext cx="16761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84400" y="4147920"/>
                  <a:ext cx="18129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97360" y="4147920"/>
                <a:ext cx="1584360" cy="943200"/>
                <a:chOff x="4797360" y="4147920"/>
                <a:chExt cx="1584360" cy="943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865760" y="4147920"/>
                  <a:ext cx="144756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97360" y="4147920"/>
                  <a:ext cx="158436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381720" y="4147920"/>
                <a:ext cx="1965240" cy="943200"/>
                <a:chOff x="6381720" y="4147920"/>
                <a:chExt cx="1965240" cy="943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450120" y="4147920"/>
                  <a:ext cx="1828800" cy="94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381720" y="4147920"/>
                  <a:ext cx="1965240" cy="94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98480" y="5091120"/>
                <a:ext cx="2185920" cy="760320"/>
                <a:chOff x="798480" y="5091120"/>
                <a:chExt cx="2185920" cy="76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66880" y="50911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98480" y="50911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84400" y="5091120"/>
                <a:ext cx="1812960" cy="760320"/>
                <a:chOff x="2984400" y="5091120"/>
                <a:chExt cx="1812960" cy="76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52800" y="50911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84400" y="50911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797360" y="5091120"/>
                <a:ext cx="1584360" cy="760320"/>
                <a:chOff x="4797360" y="5091120"/>
                <a:chExt cx="1584360" cy="76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865760" y="50911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797360" y="50911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381720" y="5091120"/>
                <a:ext cx="1965240" cy="760320"/>
                <a:chOff x="6381720" y="5091120"/>
                <a:chExt cx="1965240" cy="76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450120" y="50911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81720" y="50911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93800" y="1003320"/>
              <a:ext cx="7557840" cy="4852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793800" y="1001880"/>
            <a:ext cx="7557840" cy="4856040"/>
            <a:chOff x="793800" y="1001880"/>
            <a:chExt cx="7557840" cy="4856040"/>
          </a:xfrm>
        </p:grpSpPr>
        <p:grpSp>
          <p:nvGrpSpPr>
            <p:cNvPr id="233" name=""/>
            <p:cNvGrpSpPr/>
            <p:nvPr/>
          </p:nvGrpSpPr>
          <p:grpSpPr>
            <a:xfrm>
              <a:off x="798480" y="1006560"/>
              <a:ext cx="7548480" cy="4846680"/>
              <a:chOff x="798480" y="1006560"/>
              <a:chExt cx="7548480" cy="48466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798480" y="1006560"/>
                <a:ext cx="2185920" cy="1065240"/>
                <a:chOff x="798480" y="1006560"/>
                <a:chExt cx="2185920" cy="1065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866880" y="100656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8480" y="100656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984400" y="1006560"/>
                <a:ext cx="1812960" cy="1065240"/>
                <a:chOff x="2984400" y="1006560"/>
                <a:chExt cx="1812960" cy="1065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052800" y="100656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84400" y="100656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797360" y="1006560"/>
                <a:ext cx="1584360" cy="1065240"/>
                <a:chOff x="4797360" y="1006560"/>
                <a:chExt cx="1584360" cy="1065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65760" y="100656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97360" y="100656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381720" y="1006560"/>
                <a:ext cx="1965240" cy="1065240"/>
                <a:chOff x="6381720" y="1006560"/>
                <a:chExt cx="1965240" cy="1065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450120" y="100656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81720" y="100656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798480" y="2071800"/>
                <a:ext cx="2185920" cy="1128600"/>
                <a:chOff x="798480" y="2071800"/>
                <a:chExt cx="2185920" cy="11286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66880" y="207180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98480" y="207180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984400" y="2071800"/>
                <a:ext cx="1812960" cy="1128600"/>
                <a:chOff x="2984400" y="2071800"/>
                <a:chExt cx="1812960" cy="1128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052800" y="207180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984400" y="207180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797360" y="2071800"/>
                <a:ext cx="1584360" cy="1128600"/>
                <a:chOff x="4797360" y="2071800"/>
                <a:chExt cx="1584360" cy="1128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865760" y="207180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797360" y="207180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381720" y="2071800"/>
                <a:ext cx="1965240" cy="1128600"/>
                <a:chOff x="6381720" y="2071800"/>
                <a:chExt cx="1965240" cy="11286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450120" y="207180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81720" y="207180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98480" y="3200400"/>
                <a:ext cx="2185920" cy="946080"/>
                <a:chOff x="798480" y="3200400"/>
                <a:chExt cx="2185920" cy="946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66880" y="320040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98480" y="320040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984400" y="3200400"/>
                <a:ext cx="1812960" cy="946080"/>
                <a:chOff x="2984400" y="3200400"/>
                <a:chExt cx="1812960" cy="9460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052800" y="320040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84400" y="320040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797360" y="3200400"/>
                <a:ext cx="1584360" cy="946080"/>
                <a:chOff x="4797360" y="3200400"/>
                <a:chExt cx="1584360" cy="946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65760" y="320040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97360" y="320040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381720" y="3200400"/>
                <a:ext cx="1965240" cy="946080"/>
                <a:chOff x="6381720" y="3200400"/>
                <a:chExt cx="1965240" cy="946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50120" y="320040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81720" y="320040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98480" y="4146480"/>
                <a:ext cx="2185920" cy="946440"/>
                <a:chOff x="798480" y="4146480"/>
                <a:chExt cx="2185920" cy="9464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66880" y="414648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8480" y="414648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984400" y="4146480"/>
                <a:ext cx="1812960" cy="946440"/>
                <a:chOff x="2984400" y="4146480"/>
                <a:chExt cx="1812960" cy="9464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052800" y="414648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400" y="414648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797360" y="4146480"/>
                <a:ext cx="1584360" cy="946440"/>
                <a:chOff x="4797360" y="4146480"/>
                <a:chExt cx="1584360" cy="9464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865760" y="414648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97360" y="414648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381720" y="4146480"/>
                <a:ext cx="1965240" cy="946440"/>
                <a:chOff x="6381720" y="4146480"/>
                <a:chExt cx="1965240" cy="94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450120" y="414648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381720" y="414648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98480" y="5092920"/>
                <a:ext cx="2185920" cy="760320"/>
                <a:chOff x="798480" y="5092920"/>
                <a:chExt cx="2185920" cy="76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66880" y="5092920"/>
                  <a:ext cx="204948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8480" y="5092920"/>
                  <a:ext cx="218592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984400" y="5092920"/>
                <a:ext cx="1812960" cy="760320"/>
                <a:chOff x="2984400" y="5092920"/>
                <a:chExt cx="1812960" cy="760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052800" y="5092920"/>
                  <a:ext cx="1676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84400" y="5092920"/>
                  <a:ext cx="18129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797360" y="5092920"/>
                <a:ext cx="1584360" cy="760320"/>
                <a:chOff x="4797360" y="5092920"/>
                <a:chExt cx="1584360" cy="76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65760" y="5092920"/>
                  <a:ext cx="14475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797360" y="5092920"/>
                  <a:ext cx="158436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381720" y="5092920"/>
                <a:ext cx="1965240" cy="760320"/>
                <a:chOff x="6381720" y="5092920"/>
                <a:chExt cx="1965240" cy="76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450120" y="5092920"/>
                  <a:ext cx="182880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81720" y="5092920"/>
                  <a:ext cx="1965240" cy="76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793800" y="1001880"/>
              <a:ext cx="7557840" cy="485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793800" y="907920"/>
            <a:ext cx="7557840" cy="5041800"/>
            <a:chOff x="793800" y="907920"/>
            <a:chExt cx="7557840" cy="5041800"/>
          </a:xfrm>
        </p:grpSpPr>
        <p:grpSp>
          <p:nvGrpSpPr>
            <p:cNvPr id="296" name=""/>
            <p:cNvGrpSpPr/>
            <p:nvPr/>
          </p:nvGrpSpPr>
          <p:grpSpPr>
            <a:xfrm>
              <a:off x="798480" y="912600"/>
              <a:ext cx="7548480" cy="5032440"/>
              <a:chOff x="798480" y="912600"/>
              <a:chExt cx="7548480" cy="50324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798480" y="912600"/>
                <a:ext cx="2185920" cy="1065240"/>
                <a:chOff x="798480" y="912600"/>
                <a:chExt cx="2185920" cy="10652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66880" y="912600"/>
                  <a:ext cx="204948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228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8480" y="912600"/>
                  <a:ext cx="21859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984400" y="912600"/>
                <a:ext cx="1812960" cy="1065240"/>
                <a:chOff x="2984400" y="912600"/>
                <a:chExt cx="1812960" cy="10652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052800" y="912600"/>
                  <a:ext cx="167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derstand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plain main concep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984400" y="912600"/>
                  <a:ext cx="18129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97360" y="912600"/>
                <a:ext cx="1584360" cy="1065240"/>
                <a:chOff x="4797360" y="912600"/>
                <a:chExt cx="1584360" cy="1065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65760" y="912600"/>
                  <a:ext cx="14475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kill Attai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Can demonstra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97360" y="912600"/>
                  <a:ext cx="1584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381720" y="912600"/>
                <a:ext cx="1965240" cy="1065240"/>
                <a:chOff x="6381720" y="912600"/>
                <a:chExt cx="1965240" cy="1065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450120" y="912600"/>
                  <a:ext cx="1828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lication /Problem Solv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ses the skill effectively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81720" y="912600"/>
                  <a:ext cx="196524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98480" y="1977840"/>
                <a:ext cx="2185920" cy="1128600"/>
                <a:chOff x="798480" y="1977840"/>
                <a:chExt cx="2185920" cy="11286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66880" y="1977840"/>
                  <a:ext cx="20494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sentation of The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ture, cooperative lear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8480" y="1977840"/>
                  <a:ext cx="218592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984400" y="1977840"/>
                <a:ext cx="1812960" cy="1128600"/>
                <a:chOff x="2984400" y="1977840"/>
                <a:chExt cx="1812960" cy="11286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052800" y="1977840"/>
                  <a:ext cx="16761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984400" y="1977840"/>
                  <a:ext cx="18129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97360" y="1977840"/>
                <a:ext cx="1584360" cy="1128600"/>
                <a:chOff x="4797360" y="1977840"/>
                <a:chExt cx="1584360" cy="11286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65760" y="1977840"/>
                  <a:ext cx="144756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97360" y="1977840"/>
                  <a:ext cx="158436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381720" y="1977840"/>
                <a:ext cx="1965240" cy="1128600"/>
                <a:chOff x="6381720" y="1977840"/>
                <a:chExt cx="1965240" cy="11286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450120" y="1977840"/>
                  <a:ext cx="182880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81720" y="1977840"/>
                  <a:ext cx="1965240" cy="11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798480" y="3106440"/>
                <a:ext cx="2185920" cy="946080"/>
                <a:chOff x="798480" y="3106440"/>
                <a:chExt cx="2185920" cy="946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66880" y="310644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eling, video, simulation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98480" y="310644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984400" y="3106440"/>
                <a:ext cx="1812960" cy="946080"/>
                <a:chOff x="2984400" y="3106440"/>
                <a:chExt cx="1812960" cy="946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052800" y="310644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984400" y="310644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797360" y="3106440"/>
                <a:ext cx="1584360" cy="946080"/>
                <a:chOff x="4797360" y="3106440"/>
                <a:chExt cx="1584360" cy="946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865760" y="310644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797360" y="310644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381720" y="3106440"/>
                <a:ext cx="1965240" cy="946080"/>
                <a:chOff x="6381720" y="3106440"/>
                <a:chExt cx="1965240" cy="9460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450120" y="310644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-1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381720" y="310644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98480" y="4052520"/>
                <a:ext cx="2185920" cy="946440"/>
                <a:chOff x="798480" y="4052520"/>
                <a:chExt cx="2185920" cy="9464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66880" y="4052520"/>
                  <a:ext cx="204948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&amp;Feedb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ctice during learning 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98480" y="4052520"/>
                  <a:ext cx="218592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984400" y="4052520"/>
                <a:ext cx="1812960" cy="946440"/>
                <a:chOff x="2984400" y="4052520"/>
                <a:chExt cx="1812960" cy="9464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052800" y="4052520"/>
                  <a:ext cx="16761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984400" y="4052520"/>
                  <a:ext cx="18129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97360" y="4052520"/>
                <a:ext cx="1584360" cy="946440"/>
                <a:chOff x="4797360" y="4052520"/>
                <a:chExt cx="1584360" cy="946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5760" y="4052520"/>
                  <a:ext cx="144756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97360" y="4052520"/>
                  <a:ext cx="158436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381720" y="4052520"/>
                <a:ext cx="1965240" cy="946440"/>
                <a:chOff x="6381720" y="4052520"/>
                <a:chExt cx="1965240" cy="946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450120" y="4052520"/>
                  <a:ext cx="18288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%-15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381720" y="4052520"/>
                  <a:ext cx="1965240" cy="94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98480" y="4998960"/>
                <a:ext cx="2185920" cy="946080"/>
                <a:chOff x="798480" y="4998960"/>
                <a:chExt cx="2185920" cy="946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866880" y="4998960"/>
                  <a:ext cx="204948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ch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here work occ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98480" y="4998960"/>
                  <a:ext cx="218592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984400" y="4998960"/>
                <a:ext cx="1812960" cy="946080"/>
                <a:chOff x="2984400" y="4998960"/>
                <a:chExt cx="1812960" cy="9460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52800" y="4998960"/>
                  <a:ext cx="16761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84400" y="4998960"/>
                  <a:ext cx="18129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797360" y="4998960"/>
                <a:ext cx="1584360" cy="946080"/>
                <a:chOff x="4797360" y="4998960"/>
                <a:chExt cx="1584360" cy="946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865760" y="4998960"/>
                  <a:ext cx="14475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797360" y="4998960"/>
                  <a:ext cx="15843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381720" y="4998960"/>
                <a:ext cx="1965240" cy="946080"/>
                <a:chOff x="6381720" y="4998960"/>
                <a:chExt cx="1965240" cy="9460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450120" y="4998960"/>
                  <a:ext cx="182880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%-9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381720" y="4998960"/>
                  <a:ext cx="196524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>
              <a:off x="793800" y="907920"/>
              <a:ext cx="7557840" cy="5041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bow Partner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is information, what impact does this have for the work of a school le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Scott, New Berlin Public Schools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3:26Z</dcterms:created>
  <dc:creator>Nancy Marsho</dc:creator>
  <dc:description/>
  <dc:language>en-US</dc:language>
  <cp:lastModifiedBy>Nancy Marsho</cp:lastModifiedBy>
  <dcterms:modified xsi:type="dcterms:W3CDTF">2008-11-02T18:44:01Z</dcterms:modified>
  <cp:revision>1</cp:revision>
  <dc:subject/>
  <dc:title>What Does Research Tell Us about Adult Learning?</dc:title>
</cp:coreProperties>
</file>