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F391-2092-48C3-B034-07C6B39A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does not work if these factors are not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 been around since 1920’s – updated in the 1970’s. This adds the change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23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s 124-125 of 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A00-BAB6-4BD8-9414-794F9BD1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22B-3FC0-41C1-A114-C7D3EC17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283-A531-43EB-A16D-E04A553D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0CD-47C8-4C93-8DFC-3D808F45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641-5C91-40CC-ABCA-3394C88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160-3F7F-44D8-AC00-7C9AE047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B09-AB23-4E06-8745-9575FDC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F30-46DE-4ECB-80AB-4AAE846D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E82-E0CB-49BA-9E0B-CEDAF8D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B66-38A1-4879-B246-CDFD82BF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689-78F5-43C8-9605-0E7A9BD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BC3-E78C-461D-BDFD-F8624D8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EBB-9D99-4CD0-A294-C1BEBE02E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Clinical Supervision with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24w_i1l[1]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179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447920" y="5486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133720" y="6324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905120" y="5867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Mars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 Strit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son &amp; McGreal: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livan &amp; Glanz: Version 3: 78 &amp; 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with specific data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Completi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Learning Evidence/Work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- Communications; Prof. Development Activities; Feedback from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ifferentiated Levels/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Beginning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-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perienced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eacher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v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_jl_knf_[1]"/>
          <p:cNvPicPr/>
          <p:nvPr/>
        </p:nvPicPr>
        <p:blipFill>
          <a:blip r:embed="rId1"/>
          <a:stretch/>
        </p:blipFill>
        <p:spPr>
          <a:xfrm>
            <a:off x="5334120" y="2286000"/>
            <a:ext cx="2895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5c2"/>
                </a:solidFill>
                <a:latin typeface="Arial"/>
              </a:rPr>
              <a:t>Purposes of Teacher Evaluation/Super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038840" cy="3535560"/>
          </a:xfrm>
          <a:prstGeom prst="rect">
            <a:avLst/>
          </a:prstGeom>
          <a:solidFill>
            <a:srgbClr val="b9e5c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, Assessment, &amp;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t_uzrbd[1]"/>
          <p:cNvPicPr/>
          <p:nvPr/>
        </p:nvPicPr>
        <p:blipFill>
          <a:blip r:embed="rId1"/>
          <a:stretch/>
        </p:blipFill>
        <p:spPr>
          <a:xfrm>
            <a:off x="6060960" y="2144880"/>
            <a:ext cx="2249640" cy="235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Teacher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ritic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8e6b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e6b8"/>
                </a:solidFill>
                <a:latin typeface="Arial"/>
              </a:rPr>
              <a:t>Clear and Distinc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, Understandable Criteria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Use of a variety of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fferentiat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nsistent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od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h42_pfj0[1]"/>
          <p:cNvPicPr/>
          <p:nvPr/>
        </p:nvPicPr>
        <p:blipFill>
          <a:blip r:embed="rId1"/>
          <a:stretch/>
        </p:blipFill>
        <p:spPr>
          <a:xfrm>
            <a:off x="5334120" y="2743200"/>
            <a:ext cx="2895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efinition of Clinical Super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_jl_knf_[1]"/>
          <p:cNvPicPr/>
          <p:nvPr/>
        </p:nvPicPr>
        <p:blipFill>
          <a:blip r:embed="rId1"/>
          <a:stretch/>
        </p:blipFill>
        <p:spPr>
          <a:xfrm>
            <a:off x="5999040" y="2286000"/>
            <a:ext cx="230040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57200" y="1600200"/>
            <a:ext cx="5181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super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defined as supervision focused upon the improvement of instruction by means of systematic cycle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t conference (based on intensive intellectual analysis of actual teaching performance in the interest of rational mod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lective Clinical Supervision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deliberate instruction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oal oriented – combining school needs with the personal growth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ofessional working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a high degree of mutua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that the supervisor knows a great deal about the analysis of instruction and learning and also about productive huma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ning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ollaboratively (if possible) the focus of the observation (directive informational, collaborative, or self-di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thod and form of observation (deter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, criteria and t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time of the observation and the post-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sire or have a required form – see page 69 (mo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h42_pfj0[1]"/>
          <p:cNvPicPr/>
          <p:nvPr/>
        </p:nvPicPr>
        <p:blipFill>
          <a:blip r:embed="rId1"/>
          <a:stretch/>
        </p:blipFill>
        <p:spPr>
          <a:xfrm>
            <a:off x="4800600" y="2197080"/>
            <a:ext cx="37339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urces of Criteria for Teacher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tional Professional Teaching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Danielson Framework – Domains-p.67-68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I Ten Teacher Standards –p. 66: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rzano’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rt &amp; Science of Te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- Board Policy and Legal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the choice of the tool t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th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post-conference meeting time, and offer a copy of the completed observation tool to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facts; begin thinking of interpre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post conference interperso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t_uzrbd[1]"/>
          <p:cNvPicPr/>
          <p:nvPr/>
        </p:nvPicPr>
        <p:blipFill>
          <a:blip r:embed="rId1"/>
          <a:stretch/>
        </p:blipFill>
        <p:spPr>
          <a:xfrm>
            <a:off x="5697360" y="2144880"/>
            <a:ext cx="2613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st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_gjtfbx[1]"/>
          <p:cNvPicPr/>
          <p:nvPr/>
        </p:nvPicPr>
        <p:blipFill>
          <a:blip r:embed="rId1"/>
          <a:stretch/>
        </p:blipFill>
        <p:spPr>
          <a:xfrm>
            <a:off x="6400800" y="2629080"/>
            <a:ext cx="2438280" cy="2398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33520" y="144792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conference – may desire or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quired form- (see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of th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self analyzes – 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from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nalyzes the data with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eacher behavior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 terms of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ive behaviors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ollow up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41:40Z</dcterms:created>
  <dc:creator>Ron Lange</dc:creator>
  <dc:description/>
  <dc:language>en-US</dc:language>
  <cp:lastModifiedBy>zgs</cp:lastModifiedBy>
  <dcterms:modified xsi:type="dcterms:W3CDTF">2010-09-22T19:32:48Z</dcterms:modified>
  <cp:revision>17</cp:revision>
  <dc:subject/>
  <dc:title>New Directions in Teacher Evaluation</dc:title>
</cp:coreProperties>
</file>