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840-9C75-4AE5-A577-59C7F24C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8EA-33F5-459B-9571-EF178B67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F42-55AC-432D-80F5-7BBF21F5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0EE-40D3-42F3-8F04-34AE6474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9066-AFDE-4761-9238-72F1AD9A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36BF-0CAF-458F-893E-C8FBAF90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0A1A-C67A-4F46-8B49-159210F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B578-11F4-41B8-BAAA-8F9B22FE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AA57-D5D2-4A92-81B0-62F08A9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AAEA-065A-41FF-8567-55902A36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9D3F-D197-43FB-9675-3583D97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F6F-9C74-4E05-A08D-07342B4A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153E-CE29-447A-A3A2-66B87B4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2528-7557-4507-98A7-FEC9635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7223-59D5-4958-8062-FBC3BB07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7845-13AE-4C8F-BD63-F42E2436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30AF-E309-4945-B086-9E2626C2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18C-2A43-4F5B-B82C-05172F76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519-9CB1-40B5-B78E-ECD1714F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17D-BF2E-4DB4-9831-44F5866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409-3A44-43C8-BFB4-4A0FD56A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EFD-58EA-474E-858F-2A148AD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246-371F-42A4-9EFD-A3A22A2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ED7-6FA0-425E-84AE-C2658272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9A49-9CE0-4289-AA8F-B1CC68D50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511A-B908-4047-A7E8-3001AFA7D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Dialogue</a:t>
            </a: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is a process in which people engage in conversations where they openly share their views and develop knowledge about each other’s assumption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Peter Senge, 1990, </a:t>
            </a:r>
            <a:r>
              <a:rPr b="0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he Fifth Discip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engage in dialogue w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re open and listen on multipl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Balance sharing our own ideas with listening and inqui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uspend our ju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Promote shared m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dapted from Chris Argyris’s wor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dialogue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we rid ourselves of thin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truth is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based on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data we select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re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-- Chris Argyris, 1990,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I believe we can change the world if we start listening to one another again…Simple, truthful conversation where we each have a chance to speak, we each feel heard, and we each listen well… Human conversation is the most ancient and easiest way to cultivate the conditions for change.”</a:t>
            </a:r>
            <a:br>
              <a:rPr sz="36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--- Margaret Wheatley, 2002, p. 3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urning To One Another: Simple Conversations Restore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Hope to the Future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1:56:14Z</dcterms:created>
  <dc:creator>Nancy Blair</dc:creator>
  <dc:description/>
  <dc:language>en-US</dc:language>
  <cp:lastModifiedBy>ndmarsho</cp:lastModifiedBy>
  <dcterms:modified xsi:type="dcterms:W3CDTF">2008-11-04T18:07:30Z</dcterms:modified>
  <cp:revision>3</cp:revision>
  <dc:subject/>
  <dc:title>          Dialogue   is a process in which people engage in   conversations where they openly share their   views and develop knowledge about each other’s assumptions.   </dc:title>
</cp:coreProperties>
</file>