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DE7A-9B8A-4237-B082-A51244BC9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45A6-05C7-4674-955D-6A8025A85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8CDE-BD9B-4BFA-84CB-F9E0F0332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DCF2-87EB-4E73-A633-76E1FDE60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0823B-1221-4178-A387-4217CCC28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64410-E6E4-4F1E-862C-C40701EAE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80F8F-CB81-4656-B7CA-61464C0E4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1B8F4-E510-4A61-AF70-5D559AFB5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1F421-1D72-4060-B25A-DAEAF9BC9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39A8E-A0AB-400D-8A58-165E1BD3A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F2E01-7006-4926-B6FB-84E2B6BBE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A15B-D374-4604-A41B-60B10F403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82D4D-AF5C-4AB5-8066-4D00C7195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6A3B3-BF58-482D-847B-CBEEF0919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F36F3-E560-4404-86BE-79BBDB133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582F7-6D8E-4882-ABDB-DFE8B853E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B8882-3046-438B-B24C-F175B7E4C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C918-A9D1-401F-99CE-3B5F3FB26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E465-C0E5-45B6-99D5-74AE4D439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CFC9-6CD3-4CBF-8D9A-F81364254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E582-FC54-4B0B-B320-0DE560FB4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D066-D167-4D58-8B20-F5F83E435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7726-CED5-4B26-81DA-44FE05F19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F4F1-9548-4189-8FC1-EC8CF334E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B27B3-122F-466B-BD6A-E0A29ED757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76E4E-6D79-4D3D-B275-1782289836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533160" y="2286000"/>
            <a:ext cx="83055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Dialogue</a:t>
            </a:r>
            <a:r>
              <a:rPr b="0" lang="en-US" sz="36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 is a process in which people engage in conversations where they openly share their views and develop knowledge about each other’s assumptions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Peter Senge, 1990, </a:t>
            </a:r>
            <a:r>
              <a:rPr b="0" i="1" lang="en-US" sz="36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The Fifth Discipli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o engage in dialogue we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Are open and listen on multiple lev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Balance sharing our own ideas with listening and inqui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Suspend our judg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Promote shared mea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Adapted from Chris Argyris’s work 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eec94"/>
                </a:solidFill>
                <a:latin typeface="Times New Roman"/>
              </a:rPr>
              <a:t>Overcoming Organizational Defenses </a:t>
            </a: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(1990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In dialogue…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we rid ourselves of thinking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our beliefs are </a:t>
            </a:r>
            <a:r>
              <a:rPr b="0" i="1" lang="en-US" sz="3200" spc="-1" strike="noStrike">
                <a:solidFill>
                  <a:srgbClr val="feec94"/>
                </a:solidFill>
                <a:latin typeface="Times New Roman"/>
              </a:rPr>
              <a:t>the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tru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the truth is </a:t>
            </a:r>
            <a:r>
              <a:rPr b="0" i="1" lang="en-US" sz="3200" spc="-1" strike="noStrike">
                <a:solidFill>
                  <a:srgbClr val="feec94"/>
                </a:solidFill>
                <a:latin typeface="Times New Roman"/>
              </a:rPr>
              <a:t>obvio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our beliefs are based on </a:t>
            </a:r>
            <a:r>
              <a:rPr b="0" i="1" lang="en-US" sz="3200" spc="-1" strike="noStrike">
                <a:solidFill>
                  <a:srgbClr val="feec94"/>
                </a:solidFill>
                <a:latin typeface="Times New Roman"/>
              </a:rPr>
              <a:t>real</a:t>
            </a: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the data we select </a:t>
            </a:r>
            <a:r>
              <a:rPr b="0" i="1" lang="en-US" sz="3200" spc="-1" strike="noStrike">
                <a:solidFill>
                  <a:srgbClr val="feec94"/>
                </a:solidFill>
                <a:latin typeface="Times New Roman"/>
              </a:rPr>
              <a:t>are</a:t>
            </a: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 real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                      </a:t>
            </a: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-- Chris Argyris, 1990, </a:t>
            </a:r>
            <a:r>
              <a:rPr b="0" i="1" lang="en-US" sz="3200" spc="-1" strike="noStrike">
                <a:solidFill>
                  <a:srgbClr val="feec94"/>
                </a:solidFill>
                <a:latin typeface="Times New Roman"/>
              </a:rPr>
              <a:t>Overcoming Organizational Defen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“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I believe we can change the world if we start listening to one another again…Simple, truthful conversation where we each have a chance to speak, we each feel heard, and we each listen well… Human conversation is the most ancient and easiest way to cultivate the conditions for change.”</a:t>
            </a:r>
            <a:br>
              <a:rPr sz="3600"/>
            </a:br>
            <a:r>
              <a:rPr b="0" lang="en-US" sz="28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         </a:t>
            </a:r>
            <a:br>
              <a:rPr sz="2800"/>
            </a:br>
            <a:r>
              <a:rPr b="0" lang="en-US" sz="28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1" lang="en-US" sz="20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--- Margaret Wheatley, 2002, p. 3</a:t>
            </a:r>
            <a:br>
              <a:rPr sz="2000"/>
            </a:br>
            <a:r>
              <a:rPr b="1" lang="en-US" sz="20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              </a:t>
            </a:r>
            <a:r>
              <a:rPr b="1" i="1" lang="en-US" sz="20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Turning To One Another: Simple Conversations Restore </a:t>
            </a:r>
            <a:r>
              <a:rPr b="1" i="1" lang="en-US" sz="20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	</a:t>
            </a:r>
            <a:r>
              <a:rPr b="1" i="1" lang="en-US" sz="20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	</a:t>
            </a:r>
            <a:r>
              <a:rPr b="1" i="1" lang="en-US" sz="20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	</a:t>
            </a:r>
            <a:r>
              <a:rPr b="1" i="1" lang="en-US" sz="20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	</a:t>
            </a:r>
            <a:r>
              <a:rPr b="1" i="1" lang="en-US" sz="20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Hope to the Future</a:t>
            </a:r>
            <a:r>
              <a:rPr b="1" lang="en-US" sz="20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 </a:t>
            </a:r>
            <a:br>
              <a:rPr sz="2000"/>
            </a:b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5T01:56:14Z</dcterms:created>
  <dc:creator>Nancy Blair</dc:creator>
  <dc:description/>
  <dc:language>en-US</dc:language>
  <cp:lastModifiedBy>ndmarsho</cp:lastModifiedBy>
  <dcterms:modified xsi:type="dcterms:W3CDTF">2008-11-04T18:07:30Z</dcterms:modified>
  <cp:revision>3</cp:revision>
  <dc:subject/>
  <dc:title>          Dialogue   is a process in which people engage in   conversations where they openly share their   views and develop knowledge about each other’s assumptions.   </dc:title>
</cp:coreProperties>
</file>