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AD40-0553-47B3-96EB-1CDFB2803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does not work if these factors are not in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 been around since 1920’s – updated in the 1970’s. This adds the change proc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 23 of 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s 124-125 of 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A2B-B88F-461C-ABCB-94CDACBE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044-CFB7-4A48-9833-98D013B4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BF6-F6FC-41FA-8038-D810A6CD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49B-31AA-4180-8B77-CAA8D85C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DA6-C44F-4236-A05C-9BCA91FA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5FD-EA75-46AB-879E-8FA69A47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1EAC-7665-4883-B7AB-DF184E21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2A6-E815-4454-9D05-D6E87493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ADA-0AD9-4958-B0BD-22C72A27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9B5-BF09-4345-B028-440F6925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EB38-CA4F-41AF-A8E4-B6DB08DC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ED5B-202F-44DE-96EE-916FE614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1F15-3351-46AB-AB1B-960FDE7A4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ing Clinical Supervision with Teacher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v24w_i1l[1]"/>
          <p:cNvPicPr/>
          <p:nvPr/>
        </p:nvPicPr>
        <p:blipFill>
          <a:blip r:embed="rId1"/>
          <a:stretch/>
        </p:blipFill>
        <p:spPr>
          <a:xfrm>
            <a:off x="2057400" y="1752480"/>
            <a:ext cx="4724280" cy="3179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1447920" y="54864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2133720" y="63244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1905120" y="58672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ncy Mars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dinal Stritch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ielson &amp; McGreal: 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llivan &amp; Glanz: Version 3: 78 &amp; 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 with specific data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 Completion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Reflection o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ing Arti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Learning Evidence/Work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- Communications; Prof. Development Activities; Feedback from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Differentiated Levels/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Beginning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ve-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Experienced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dir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Teacher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v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_jl_knf_[1]"/>
          <p:cNvPicPr/>
          <p:nvPr/>
        </p:nvPicPr>
        <p:blipFill>
          <a:blip r:embed="rId1"/>
          <a:stretch/>
        </p:blipFill>
        <p:spPr>
          <a:xfrm>
            <a:off x="5334120" y="2286000"/>
            <a:ext cx="28954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5c2"/>
                </a:solidFill>
                <a:latin typeface="Arial"/>
              </a:rPr>
              <a:t>Purposes of Teacher Evaluation/Super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038840" cy="3535560"/>
          </a:xfrm>
          <a:prstGeom prst="rect">
            <a:avLst/>
          </a:prstGeom>
          <a:solidFill>
            <a:srgbClr val="b9e5c2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, Assessment, &amp;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t_uzrbd[1]"/>
          <p:cNvPicPr/>
          <p:nvPr/>
        </p:nvPicPr>
        <p:blipFill>
          <a:blip r:embed="rId1"/>
          <a:stretch/>
        </p:blipFill>
        <p:spPr>
          <a:xfrm>
            <a:off x="6060960" y="2144880"/>
            <a:ext cx="2249640" cy="2350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veTeacher Evalu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Critical 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8e6b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e6b8"/>
                </a:solidFill>
                <a:latin typeface="Arial"/>
              </a:rPr>
              <a:t>Clear and Distinct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ear, Understandable Criteria and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Use of a variety of 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ifferentiate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Consistent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iodic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h42_pfj0[1]"/>
          <p:cNvPicPr/>
          <p:nvPr/>
        </p:nvPicPr>
        <p:blipFill>
          <a:blip r:embed="rId1"/>
          <a:stretch/>
        </p:blipFill>
        <p:spPr>
          <a:xfrm>
            <a:off x="5334120" y="2743200"/>
            <a:ext cx="28954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definition of Clinical Supervis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_jl_knf_[1]"/>
          <p:cNvPicPr/>
          <p:nvPr/>
        </p:nvPicPr>
        <p:blipFill>
          <a:blip r:embed="rId1"/>
          <a:stretch/>
        </p:blipFill>
        <p:spPr>
          <a:xfrm>
            <a:off x="5999040" y="2286000"/>
            <a:ext cx="2300400" cy="2541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457200" y="1600200"/>
            <a:ext cx="5181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nical superv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be defined as supervision focused upon the improvement of instruction by means of systematic cycle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t conference (based on intensive intellectual analysis of actual teaching performance in the interest of rational mod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lective Clinical Supervision 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deliberate instructional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goal oriented – combining school needs with the personal growth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ssumes a professional working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a high degree of mutual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ssumes that the supervisor knows a great deal about the analysis of instruction and learning and also about productive human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nning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collaboratively (if possible) the focus of the observation (directive informational, collaborative, or self-dir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method and form of observation (deter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, criteria and t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o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time of the observation and the post-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desire or have a required form – see page 69 (mod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h42_pfj0[1]"/>
          <p:cNvPicPr/>
          <p:nvPr/>
        </p:nvPicPr>
        <p:blipFill>
          <a:blip r:embed="rId1"/>
          <a:stretch/>
        </p:blipFill>
        <p:spPr>
          <a:xfrm>
            <a:off x="4800600" y="2197080"/>
            <a:ext cx="37339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urces of Criteria for Teacher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 Professional Teaching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Danielson Framework – Domains-p.67-68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PI Ten Teacher Standards –p. 66: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rzano’s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e Art &amp; Science of Teac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ther- Board Policy and Legal Require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 the choice of the tool to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the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the post-conference meeting time, and offer a copy of the completed observation tool to 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the facts; begin thinking of interpre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post conference interpersona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at_uzrbd[1]"/>
          <p:cNvPicPr/>
          <p:nvPr/>
        </p:nvPicPr>
        <p:blipFill>
          <a:blip r:embed="rId1"/>
          <a:stretch/>
        </p:blipFill>
        <p:spPr>
          <a:xfrm>
            <a:off x="5697360" y="2144880"/>
            <a:ext cx="261324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st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_gjtfbx[1]"/>
          <p:cNvPicPr/>
          <p:nvPr/>
        </p:nvPicPr>
        <p:blipFill>
          <a:blip r:embed="rId1"/>
          <a:stretch/>
        </p:blipFill>
        <p:spPr>
          <a:xfrm>
            <a:off x="6400800" y="2629080"/>
            <a:ext cx="2438280" cy="2398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533520" y="1447920"/>
            <a:ext cx="5486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ew conference – may desire or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required form- (see p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 of the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self analyzes – a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eedback from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nalyzes the data with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o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 teacher behaviors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in terms of posi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studen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alternative behaviors/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follow up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41:40Z</dcterms:created>
  <dc:creator>Ron Lange</dc:creator>
  <dc:description/>
  <dc:language>en-US</dc:language>
  <cp:lastModifiedBy>zgs</cp:lastModifiedBy>
  <dcterms:modified xsi:type="dcterms:W3CDTF">2010-09-22T19:32:48Z</dcterms:modified>
  <cp:revision>17</cp:revision>
  <dc:subject/>
  <dc:title>New Directions in Teacher Evaluation</dc:title>
</cp:coreProperties>
</file>