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96D-91D9-42B9-88BC-D472B3D1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does not work if these factors are not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 been around since 1920’s – updated in the 1970’s. This adds the chang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23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s 124-125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C8A-E067-444F-BEE2-4108705A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340-838E-4327-8C2D-015BAA5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46B-F570-4C9D-A56B-B66C8582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CC1-FABF-4593-B101-1D969925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31C-0C4F-4ED8-B424-059CAE8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8C4-1B4F-4635-87B5-CEFF0E5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7B8-A466-433B-B735-6D16D749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E3C-9751-4C88-B9BC-AB2762B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887-2B72-4793-95A4-33C34E4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2B2-568D-4FEF-A3FF-EAA0BA10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E48-CDDF-4AD0-B7F8-52F2343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612-B0EB-4D49-899F-990FA4A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821C-73BE-4EEA-9930-913A2AF1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Clinical Supervision with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24w_i1l[1]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179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47920" y="5486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33720" y="6324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905120" y="5867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Mars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 Strit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son &amp; McGreal: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livan &amp; Glanz: Version 3: 78 &amp; 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with specific dat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Completi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Learning Evidence/Work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- Communications; Prof. Development Activities; Feedback from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ifferentiated Levels/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Beginning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-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perienced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eacher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_jl_knf_[1]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5c2"/>
                </a:solidFill>
                <a:latin typeface="Arial"/>
              </a:rPr>
              <a:t>Purposes of Teacher Evaluation/Super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038840" cy="3535560"/>
          </a:xfrm>
          <a:prstGeom prst="rect">
            <a:avLst/>
          </a:prstGeom>
          <a:solidFill>
            <a:srgbClr val="b9e5c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, Assessment, &amp;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t_uzrbd[1]"/>
          <p:cNvPicPr/>
          <p:nvPr/>
        </p:nvPicPr>
        <p:blipFill>
          <a:blip r:embed="rId1"/>
          <a:stretch/>
        </p:blipFill>
        <p:spPr>
          <a:xfrm>
            <a:off x="6060960" y="2144880"/>
            <a:ext cx="2249640" cy="235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Teacher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ritic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8e6b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e6b8"/>
                </a:solidFill>
                <a:latin typeface="Arial"/>
              </a:rPr>
              <a:t>Clear and Distinc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, Understandable Criteria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Use of a variety of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fferentiat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nsisten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od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h42_pfj0[1]"/>
          <p:cNvPicPr/>
          <p:nvPr/>
        </p:nvPicPr>
        <p:blipFill>
          <a:blip r:embed="rId1"/>
          <a:stretch/>
        </p:blipFill>
        <p:spPr>
          <a:xfrm>
            <a:off x="5334120" y="2743200"/>
            <a:ext cx="2895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efinition of Clinical Super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_jl_knf_[1]"/>
          <p:cNvPicPr/>
          <p:nvPr/>
        </p:nvPicPr>
        <p:blipFill>
          <a:blip r:embed="rId1"/>
          <a:stretch/>
        </p:blipFill>
        <p:spPr>
          <a:xfrm>
            <a:off x="5999040" y="2286000"/>
            <a:ext cx="230040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57200" y="1600200"/>
            <a:ext cx="518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super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defined as supervision focused upon the improvement of instruction by means of systematic cycl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 conference (based on intensive intellectual analysis of actual teaching performance in the interest of rational mod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lective Clinical Supervision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liberate instruction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al oriented – combining school needs with the personal growth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ofessional working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a high degree of mutua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that the supervisor knows a great deal about the analysis of instruction and learning and also about productive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ning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ollaboratively (if possible) the focus of the observation (directive informational, collaborative, or self-di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thod and form of observation (deter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, criteria and t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ime of the observation and the post-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sire or have a required form – see page 69 (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42_pfj0[1]"/>
          <p:cNvPicPr/>
          <p:nvPr/>
        </p:nvPicPr>
        <p:blipFill>
          <a:blip r:embed="rId1"/>
          <a:stretch/>
        </p:blipFill>
        <p:spPr>
          <a:xfrm>
            <a:off x="4800600" y="2197080"/>
            <a:ext cx="3733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urces of Criteria for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 Professional Teaching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Danielson Framework – Domains-p.67-68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I Ten Teacher Standards –p. 66: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zano’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rt &amp; Science of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- Board Policy and Legal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the choice of the tool t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post-conference meeting time, and offer a copy of the completed observation tool to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facts; begin thinking of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ost conference interperso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t_uzrbd[1]"/>
          <p:cNvPicPr/>
          <p:nvPr/>
        </p:nvPicPr>
        <p:blipFill>
          <a:blip r:embed="rId1"/>
          <a:stretch/>
        </p:blipFill>
        <p:spPr>
          <a:xfrm>
            <a:off x="5697360" y="2144880"/>
            <a:ext cx="2613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st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_gjtfbx[1]"/>
          <p:cNvPicPr/>
          <p:nvPr/>
        </p:nvPicPr>
        <p:blipFill>
          <a:blip r:embed="rId1"/>
          <a:stretch/>
        </p:blipFill>
        <p:spPr>
          <a:xfrm>
            <a:off x="6400800" y="2629080"/>
            <a:ext cx="2438280" cy="2398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144792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conference – may desire or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quired form- (see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of th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self analyzes – 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from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alyzes the data with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eacher behavior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 terms of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ive behavior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llow u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41:40Z</dcterms:created>
  <dc:creator>Ron Lange</dc:creator>
  <dc:description/>
  <dc:language>en-US</dc:language>
  <cp:lastModifiedBy>zgs</cp:lastModifiedBy>
  <dcterms:modified xsi:type="dcterms:W3CDTF">2010-09-22T19:32:48Z</dcterms:modified>
  <cp:revision>17</cp:revision>
  <dc:subject/>
  <dc:title>New Directions in Teacher Evaluation</dc:title>
</cp:coreProperties>
</file>