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F7B1-5C97-4323-AC59-DE1F9975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does not work if these factors are not in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 been around since 1920’s – updated in the 1970’s. This adds the change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23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s 124-125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B7F-AF94-4366-9D0E-109F3582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3E3-D565-4AF1-BC28-498DCF65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388-B5AD-42CD-BB2B-4C05B16B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C46-F858-42D1-9B98-89C12391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C1D-9735-4F95-A9FC-28B4FADE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B8B-E97F-4F73-8130-BD5CF773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EDC-6AB4-46D7-8E9B-4C087CD7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EC5-BC9F-49B4-82C8-18384C04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D47-B189-47BE-AF51-87B36558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2C5-212E-4476-BD27-A9861DC8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DE6-2762-4667-BA1F-975B8ACA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CA0-71C8-4444-9EAD-88E524E7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C1CA-15F4-4E7F-AC08-A701BDDDE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Clinical Supervision with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24w_i1l[1]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3179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447920" y="5486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133720" y="63244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905120" y="5867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cy Mars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inal Stritch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son &amp; McGreal: 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livan &amp; Glanz: Version 3: 78 &amp; 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with specific data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Completi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Reflection o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ing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Learning Evidence/Work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- Communications; Prof. Development Activities; Feedback from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ifferentiated Levels/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Beginning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-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Experienced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eacher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_jl_knf_[1]"/>
          <p:cNvPicPr/>
          <p:nvPr/>
        </p:nvPicPr>
        <p:blipFill>
          <a:blip r:embed="rId1"/>
          <a:stretch/>
        </p:blipFill>
        <p:spPr>
          <a:xfrm>
            <a:off x="5334120" y="2286000"/>
            <a:ext cx="2895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5c2"/>
                </a:solidFill>
                <a:latin typeface="Arial"/>
              </a:rPr>
              <a:t>Purposes of Teacher Evaluation/Super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038840" cy="3535560"/>
          </a:xfrm>
          <a:prstGeom prst="rect">
            <a:avLst/>
          </a:prstGeom>
          <a:solidFill>
            <a:srgbClr val="b9e5c2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, Assessment, &amp;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t_uzrbd[1]"/>
          <p:cNvPicPr/>
          <p:nvPr/>
        </p:nvPicPr>
        <p:blipFill>
          <a:blip r:embed="rId1"/>
          <a:stretch/>
        </p:blipFill>
        <p:spPr>
          <a:xfrm>
            <a:off x="6060960" y="2144880"/>
            <a:ext cx="2249640" cy="2350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veTeacher Eval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Critical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8e6b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e6b8"/>
                </a:solidFill>
                <a:latin typeface="Arial"/>
              </a:rPr>
              <a:t>Clear and Distinc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, Understandable Criteria and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Use of a variety of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fferentiat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Consistent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od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h42_pfj0[1]"/>
          <p:cNvPicPr/>
          <p:nvPr/>
        </p:nvPicPr>
        <p:blipFill>
          <a:blip r:embed="rId1"/>
          <a:stretch/>
        </p:blipFill>
        <p:spPr>
          <a:xfrm>
            <a:off x="5334120" y="2743200"/>
            <a:ext cx="28954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efinition of Clinical Super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_jl_knf_[1]"/>
          <p:cNvPicPr/>
          <p:nvPr/>
        </p:nvPicPr>
        <p:blipFill>
          <a:blip r:embed="rId1"/>
          <a:stretch/>
        </p:blipFill>
        <p:spPr>
          <a:xfrm>
            <a:off x="5999040" y="2286000"/>
            <a:ext cx="2300400" cy="25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57200" y="1600200"/>
            <a:ext cx="5181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super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defined as supervision focused upon the improvement of instruction by means of systematic cycle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t conference (based on intensive intellectual analysis of actual teaching performance in the interest of rational mod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lective Clinical Supervision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deliberate instructional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oal oriented – combining school needs with the personal growth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a professional working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a high degree of mutual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that the supervisor knows a great deal about the analysis of instruction and learning and also about productive huma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ning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collaboratively (if possible) the focus of the observation (directive informational, collaborative, or self-dir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ethod and form of observation (deter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, criteria and t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time of the observation and the post-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sire or have a required form – see page 69 (mo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h42_pfj0[1]"/>
          <p:cNvPicPr/>
          <p:nvPr/>
        </p:nvPicPr>
        <p:blipFill>
          <a:blip r:embed="rId1"/>
          <a:stretch/>
        </p:blipFill>
        <p:spPr>
          <a:xfrm>
            <a:off x="4800600" y="2197080"/>
            <a:ext cx="3733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urces of Criteria for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 Professional Teaching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Danielson Framework – Domains-p.67-68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PI Ten Teacher Standards –p. 66: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rzano’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e Art &amp; Science of Tea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- Board Policy and Legal Requi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the choice of the tool to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post-conference meeting time, and offer a copy of the completed observation tool to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the facts; begin thinking of interpre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ost conference interperso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t_uzrbd[1]"/>
          <p:cNvPicPr/>
          <p:nvPr/>
        </p:nvPicPr>
        <p:blipFill>
          <a:blip r:embed="rId1"/>
          <a:stretch/>
        </p:blipFill>
        <p:spPr>
          <a:xfrm>
            <a:off x="5697360" y="2144880"/>
            <a:ext cx="26132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st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_gjtfbx[1]"/>
          <p:cNvPicPr/>
          <p:nvPr/>
        </p:nvPicPr>
        <p:blipFill>
          <a:blip r:embed="rId1"/>
          <a:stretch/>
        </p:blipFill>
        <p:spPr>
          <a:xfrm>
            <a:off x="6400800" y="2629080"/>
            <a:ext cx="2438280" cy="2398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33520" y="1447920"/>
            <a:ext cx="5486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conference – may desire or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quired form- (see p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of the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self analyzes – 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 from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alyzes the data with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teacher behavior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in terms of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lternative behaviors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ollow u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41:40Z</dcterms:created>
  <dc:creator>Ron Lange</dc:creator>
  <dc:description/>
  <dc:language>en-US</dc:language>
  <cp:lastModifiedBy>zgs</cp:lastModifiedBy>
  <dcterms:modified xsi:type="dcterms:W3CDTF">2010-09-22T19:32:48Z</dcterms:modified>
  <cp:revision>17</cp:revision>
  <dc:subject/>
  <dc:title>New Directions in Teacher Evaluation</dc:title>
</cp:coreProperties>
</file>