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6656-07DB-433B-B879-AEAC0E790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does not work if these factors are not in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 been around since 1920’s – updated in the 1970’s. This adds the change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23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s 124-125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9A5-B048-4614-B132-1379AD0B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998-8B5D-463D-BA85-FB0E0054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91D-9E59-4BC8-8401-0A882B0F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B6B-DD95-4729-8009-3FA6AC56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D1E-FC88-46D6-A3B0-E7B68801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FAF-5AFC-46DA-96C0-6BFA1226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646-A8ED-4B3D-9666-151DAB73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6CC-2EC4-49D7-AC3A-AF8977EE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6C1-D713-4924-9807-1C6DEF0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786-93FC-4890-851D-68B8EAF0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B69-FFA8-4BCC-849E-C02C0B74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EB3-3DE5-4A70-AF5A-2C2D932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02AF-A90E-4428-AEC7-C2DC9E3EF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Clinical Supervision with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24w_i1l[1]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3179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447920" y="5486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133720" y="63244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905120" y="5867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cy Mars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inal Stritch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son &amp; McGreal: 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livan &amp; Glanz: Version 3: 78 &amp; 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with specific data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Completi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Reflection o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Learning Evidence/Work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- Communications; Prof. Development Activities; Feedback from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ifferentiated Levels/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Beginning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-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Experienced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eacher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_jl_knf_[1]"/>
          <p:cNvPicPr/>
          <p:nvPr/>
        </p:nvPicPr>
        <p:blipFill>
          <a:blip r:embed="rId1"/>
          <a:stretch/>
        </p:blipFill>
        <p:spPr>
          <a:xfrm>
            <a:off x="5334120" y="2286000"/>
            <a:ext cx="2895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5c2"/>
                </a:solidFill>
                <a:latin typeface="Arial"/>
              </a:rPr>
              <a:t>Purposes of Teacher Evaluation/Super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038840" cy="3535560"/>
          </a:xfrm>
          <a:prstGeom prst="rect">
            <a:avLst/>
          </a:prstGeom>
          <a:solidFill>
            <a:srgbClr val="b9e5c2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, Assessment, &amp;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t_uzrbd[1]"/>
          <p:cNvPicPr/>
          <p:nvPr/>
        </p:nvPicPr>
        <p:blipFill>
          <a:blip r:embed="rId1"/>
          <a:stretch/>
        </p:blipFill>
        <p:spPr>
          <a:xfrm>
            <a:off x="6060960" y="2144880"/>
            <a:ext cx="2249640" cy="2350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Teacher Eval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Critical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8e6b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e6b8"/>
                </a:solidFill>
                <a:latin typeface="Arial"/>
              </a:rPr>
              <a:t>Clear and Distinc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, Understandable Criteria an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Use of a variety of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fferentiat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Consistent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od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h42_pfj0[1]"/>
          <p:cNvPicPr/>
          <p:nvPr/>
        </p:nvPicPr>
        <p:blipFill>
          <a:blip r:embed="rId1"/>
          <a:stretch/>
        </p:blipFill>
        <p:spPr>
          <a:xfrm>
            <a:off x="5334120" y="2743200"/>
            <a:ext cx="28954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efinition of Clinical Super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_jl_knf_[1]"/>
          <p:cNvPicPr/>
          <p:nvPr/>
        </p:nvPicPr>
        <p:blipFill>
          <a:blip r:embed="rId1"/>
          <a:stretch/>
        </p:blipFill>
        <p:spPr>
          <a:xfrm>
            <a:off x="5999040" y="2286000"/>
            <a:ext cx="2300400" cy="25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57200" y="1600200"/>
            <a:ext cx="5181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super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defined as supervision focused upon the improvement of instruction by means of systematic cycle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t conference (based on intensive intellectual analysis of actual teaching performance in the interest of rational mod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lective Clinical Supervision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eliberate instruction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oal oriented – combining school needs with the personal growth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a professional working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a high degree of mutua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that the supervisor knows a great deal about the analysis of instruction and learning and also about productive 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ning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ollaboratively (if possible) the focus of the observation (directive informational, collaborative, or self-dir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ethod and form of observation (deter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, criteria and t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time of the observation and the post-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sire or have a required form – see page 69 (mo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h42_pfj0[1]"/>
          <p:cNvPicPr/>
          <p:nvPr/>
        </p:nvPicPr>
        <p:blipFill>
          <a:blip r:embed="rId1"/>
          <a:stretch/>
        </p:blipFill>
        <p:spPr>
          <a:xfrm>
            <a:off x="4800600" y="2197080"/>
            <a:ext cx="3733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urces of Criteria for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 Professional Teaching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Danielson Framework – Domains-p.67-68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PI Ten Teacher Standards –p. 66: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rzano’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rt &amp; Science of Tea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- Board Policy and Legal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the choice of the tool to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post-conference meeting time, and offer a copy of the completed observation tool to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the facts; begin thinking of interpre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ost conference interperso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t_uzrbd[1]"/>
          <p:cNvPicPr/>
          <p:nvPr/>
        </p:nvPicPr>
        <p:blipFill>
          <a:blip r:embed="rId1"/>
          <a:stretch/>
        </p:blipFill>
        <p:spPr>
          <a:xfrm>
            <a:off x="5697360" y="2144880"/>
            <a:ext cx="26132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st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_gjtfbx[1]"/>
          <p:cNvPicPr/>
          <p:nvPr/>
        </p:nvPicPr>
        <p:blipFill>
          <a:blip r:embed="rId1"/>
          <a:stretch/>
        </p:blipFill>
        <p:spPr>
          <a:xfrm>
            <a:off x="6400800" y="2629080"/>
            <a:ext cx="2438280" cy="2398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33520" y="1447920"/>
            <a:ext cx="548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conference – may desire or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quired form- (see p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of th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self analyzes – 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 from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alyzes the data with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eacher behavior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in terms of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lternative behaviors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ollow u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41:40Z</dcterms:created>
  <dc:creator>Ron Lange</dc:creator>
  <dc:description/>
  <dc:language>en-US</dc:language>
  <cp:lastModifiedBy>zgs</cp:lastModifiedBy>
  <dcterms:modified xsi:type="dcterms:W3CDTF">2010-09-22T19:32:48Z</dcterms:modified>
  <cp:revision>17</cp:revision>
  <dc:subject/>
  <dc:title>New Directions in Teacher Evaluation</dc:title>
</cp:coreProperties>
</file>