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EB1F-87D4-4E3B-BCC9-5BEE305AD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56AE-225E-4987-85D4-647DE13B7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DB53-DCF4-4402-A88C-8E5CCBB12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25A7-A504-4964-84C4-7420FD680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5553C-9345-4C27-A9E5-2D387A17C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C4DAD-84E2-4B96-BC90-10249F761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738C9-5707-4A1E-A370-715D7BB81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CC7BF-C16C-43D6-AF8D-47636F7FB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B3ABA-1ACB-48C0-83C8-C22560AE5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45560-56B3-43CF-B6BF-1AC21D2AB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B18FF-6B0C-4FA1-90B6-8A812FBDA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4E34-9FAB-4689-9841-4B78E5786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B5CCA-300C-4FF7-8397-8F00DE33B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30AD0-4F1D-4C30-8E10-6DCC355F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12AD0-215E-44D9-8DF9-F16E4A10C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BACEE-ADEC-43D9-84EA-6EDFDEA18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D68FE-3007-4995-B955-679A72C0B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2625-3FF3-47E1-BFD9-381B61AA1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1448-EEC2-48D4-97DD-06F84759A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57ED-1ED5-407D-822D-0C192DCA0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0B3D-3975-472C-B51D-33C4EB708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5FED-3E3D-46C6-A51A-FEC17C2B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35A6-B277-4AC4-BFCF-7BFBF90A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D308-B001-4FF8-9CAB-731A6E96D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DB434-4D18-4E56-B430-C4596BC6B6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2C053-1A5D-4CD3-9B70-53CC11CC41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533160" y="2286000"/>
            <a:ext cx="83055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Dialogue</a:t>
            </a:r>
            <a:r>
              <a:rPr b="0" lang="en-US" sz="36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 is a process in which people engage in conversations where they openly share their views and develop knowledge about each other’s assumptions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Peter Senge, 1990, </a:t>
            </a:r>
            <a:r>
              <a:rPr b="0" i="1" lang="en-US" sz="36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The Fifth Discipli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o engage in dialogue we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Are open and listen on multiple lev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Balance sharing our own ideas with listening and inqui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Suspend our judg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Promote shared mea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Adapted from Chris Argyris’s work 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eec94"/>
                </a:solidFill>
                <a:latin typeface="Times New Roman"/>
              </a:rPr>
              <a:t>Overcoming Organizational Defenses </a:t>
            </a: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(1990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In dialogue…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we rid ourselves of thinking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our beliefs are </a:t>
            </a:r>
            <a:r>
              <a:rPr b="0" i="1" lang="en-US" sz="3200" spc="-1" strike="noStrike">
                <a:solidFill>
                  <a:srgbClr val="feec94"/>
                </a:solidFill>
                <a:latin typeface="Times New Roman"/>
              </a:rPr>
              <a:t>the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tru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the truth is </a:t>
            </a:r>
            <a:r>
              <a:rPr b="0" i="1" lang="en-US" sz="3200" spc="-1" strike="noStrike">
                <a:solidFill>
                  <a:srgbClr val="feec94"/>
                </a:solidFill>
                <a:latin typeface="Times New Roman"/>
              </a:rPr>
              <a:t>obvio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our beliefs are based on </a:t>
            </a:r>
            <a:r>
              <a:rPr b="0" i="1" lang="en-US" sz="3200" spc="-1" strike="noStrike">
                <a:solidFill>
                  <a:srgbClr val="feec94"/>
                </a:solidFill>
                <a:latin typeface="Times New Roman"/>
              </a:rPr>
              <a:t>real</a:t>
            </a: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the data we select </a:t>
            </a:r>
            <a:r>
              <a:rPr b="0" i="1" lang="en-US" sz="3200" spc="-1" strike="noStrike">
                <a:solidFill>
                  <a:srgbClr val="feec94"/>
                </a:solidFill>
                <a:latin typeface="Times New Roman"/>
              </a:rPr>
              <a:t>are</a:t>
            </a: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 real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                      </a:t>
            </a: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-- Chris Argyris, 1990, </a:t>
            </a:r>
            <a:r>
              <a:rPr b="0" i="1" lang="en-US" sz="3200" spc="-1" strike="noStrike">
                <a:solidFill>
                  <a:srgbClr val="feec94"/>
                </a:solidFill>
                <a:latin typeface="Times New Roman"/>
              </a:rPr>
              <a:t>Overcoming Organizational Defen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“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I believe we can change the world if we start listening to one another again…Simple, truthful conversation where we each have a chance to speak, we each feel heard, and we each listen well… Human conversation is the most ancient and easiest way to cultivate the conditions for change.”</a:t>
            </a:r>
            <a:br>
              <a:rPr sz="3600"/>
            </a:br>
            <a:r>
              <a:rPr b="0" lang="en-US" sz="28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         </a:t>
            </a:r>
            <a:br>
              <a:rPr sz="2800"/>
            </a:br>
            <a:r>
              <a:rPr b="0" lang="en-US" sz="28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1" lang="en-US" sz="20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--- Margaret Wheatley, 2002, p. 3</a:t>
            </a:r>
            <a:br>
              <a:rPr sz="2000"/>
            </a:br>
            <a:r>
              <a:rPr b="1" lang="en-US" sz="20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              </a:t>
            </a:r>
            <a:r>
              <a:rPr b="1" i="1" lang="en-US" sz="20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Turning To One Another: Simple Conversations Restore </a:t>
            </a:r>
            <a:r>
              <a:rPr b="1" i="1" lang="en-US" sz="20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	</a:t>
            </a:r>
            <a:r>
              <a:rPr b="1" i="1" lang="en-US" sz="20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	</a:t>
            </a:r>
            <a:r>
              <a:rPr b="1" i="1" lang="en-US" sz="20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	</a:t>
            </a:r>
            <a:r>
              <a:rPr b="1" i="1" lang="en-US" sz="20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	</a:t>
            </a:r>
            <a:r>
              <a:rPr b="1" i="1" lang="en-US" sz="20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Hope to the Future</a:t>
            </a:r>
            <a:r>
              <a:rPr b="1" lang="en-US" sz="20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5T01:56:14Z</dcterms:created>
  <dc:creator>Nancy Blair</dc:creator>
  <dc:description/>
  <dc:language>en-US</dc:language>
  <cp:lastModifiedBy>ndmarsho</cp:lastModifiedBy>
  <dcterms:modified xsi:type="dcterms:W3CDTF">2008-11-04T18:07:30Z</dcterms:modified>
  <cp:revision>3</cp:revision>
  <dc:subject/>
  <dc:title>          Dialogue   is a process in which people engage in   conversations where they openly share their   views and develop knowledge about each other’s assumptions.   </dc:title>
</cp:coreProperties>
</file>