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BC9D-CDBA-486E-8E4B-3737A136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EA92-CB8D-432C-A509-898BF389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34F0-7C08-4418-9B81-B14B71FA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D12E-7FA5-494B-94FA-049D936C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64C0-87F6-4CE1-AE82-6EEB614E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AAFF-7CC8-4929-B84B-49165392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0CD0-D774-4C7A-8DD3-7E4143DB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C950-8CC8-42D4-9B80-D43F6497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DA5B-6BE1-448C-AF0E-D54A256C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787A-7037-48B2-A230-FA7DD337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DEA5-0D88-4C39-B5D8-E7E48BDD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B43F-2A71-4444-9629-EB43F864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66A0-2FE6-4A24-8586-DA944FB6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CF84-ADE0-4972-9F7B-19161344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A735-D99C-4BFE-BFC9-4C2A0688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EA18-D11B-4CEE-BE71-2B63B7A9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3409-A7B3-4E4B-90E7-733EC2DF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6F88-1BCE-4B7A-B444-E274BB4D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6F8D-F704-4335-8FF9-6F73ED13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CA4C-992E-4F4E-9B13-C5F25148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0854-5BAC-48E5-AF9F-DE6F5BE2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6265-5AE8-4C65-876B-410D6C64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9096-524F-4595-BD50-69B2C8CD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FA5F-42F8-49AE-ACBE-DCCF1117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AA38-18FD-4B8D-BD2B-55A4BE58A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40CF-1A19-445B-9776-869122C5AA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533160" y="228600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Dialogue</a:t>
            </a:r>
            <a:r>
              <a:rPr b="0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 is a process in which people engage in conversations where they openly share their views and develop knowledge about each other’s assumption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Peter Senge, 1990, </a:t>
            </a:r>
            <a:r>
              <a:rPr b="0" i="1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The Fifth Discipl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o engage in dialogue we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Are open and listen on multiple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Balance sharing our own ideas with listening and inqui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Suspend our ju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Promote shared mea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Adapted from Chris Argyris’s work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Overcoming Organizational Defenses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(199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 dialogue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we rid ourselves of thinking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our beliefs are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the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ru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he truth is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obvi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our beliefs are based on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real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he data we select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real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-- Chris Argyris, 1990,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Overcoming Organizational Def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I believe we can change the world if we start listening to one another again…Simple, truthful conversation where we each have a chance to speak, we each feel heard, and we each listen well… Human conversation is the most ancient and easiest way to cultivate the conditions for change.”</a:t>
            </a:r>
            <a:br>
              <a:rPr sz="36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        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--- Margaret Wheatley, 2002, p. 3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              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Turning To One Another: Simple Conversations Restore 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Hope to the Future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1:56:14Z</dcterms:created>
  <dc:creator>Nancy Blair</dc:creator>
  <dc:description/>
  <dc:language>en-US</dc:language>
  <cp:lastModifiedBy>ndmarsho</cp:lastModifiedBy>
  <dcterms:modified xsi:type="dcterms:W3CDTF">2008-11-04T18:07:30Z</dcterms:modified>
  <cp:revision>3</cp:revision>
  <dc:subject/>
  <dc:title>          Dialogue   is a process in which people engage in   conversations where they openly share their   views and develop knowledge about each other’s assumptions.   </dc:title>
</cp:coreProperties>
</file>