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027-4D78-4A41-8794-FE5DD279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11F-BA31-4E87-92E1-6DC6ECC3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879-332A-45D1-8DE8-BDB05122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3A9D-97B8-4636-9AA8-1DFCEA8A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05AD-BF01-4052-96BE-FE18E1FE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0A83-A075-4512-921E-6C366ECA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2CF1-E6AD-4F08-B931-5F2A141F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D77D-94BF-4025-9B04-4C105D97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21DE-C3C1-4577-A609-760D5CEC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0FFF-7CB2-4AEF-A059-D4E58E01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C66A-2BD3-4C4D-930A-C871031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698F-F6E5-44E5-8038-220D33D1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073D-289F-48CE-BA19-F14BF932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89BB-28F4-4F0D-9149-6F60A917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F60A-1E99-4CED-BB45-3814873B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1328-C695-4C37-B275-E324846A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B82F-A2AD-42A8-BE8E-C98F3DAA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8F9-E4E8-4C6A-BFF5-605B1734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380-07F3-4FB8-8BFD-777DA8F2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138-9513-4027-B6E7-C1556352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AA9-E159-4913-9E06-2F89D9A6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99B-42B7-42D0-B03A-E550C932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23B-6AE9-4A64-B0FB-0D35C885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4C6E-33AF-481C-A43D-21E77270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C496-E45D-4E00-BC8C-FF1565408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2546-454C-4D2D-A20B-76DFB4EA1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Dialogue</a:t>
            </a:r>
            <a:r>
              <a:rPr b="0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is a process in which people engage in conversations where they openly share their views and develop knowledge about each other’s assumption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Peter Senge, 1990, </a:t>
            </a:r>
            <a:r>
              <a:rPr b="0" i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The Fifth Discip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o engage in dialogue w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Are open and listen on multiple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Balance sharing our own ideas with listening and inqui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Suspend our ju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Promote shared mea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Adapted from Chris Argyris’s work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Overcoming Organizational Defenses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(199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 dialogue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we rid ourselves of think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our beliefs are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th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ru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he truth is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obv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our beliefs are based on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real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he data we select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re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-- Chris Argyris, 1990,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Overcoming Organizational Def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I believe we can change the world if we start listening to one another again…Simple, truthful conversation where we each have a chance to speak, we each feel heard, and we each listen well… Human conversation is the most ancient and easiest way to cultivate the conditions for change.”</a:t>
            </a:r>
            <a:br>
              <a:rPr sz="36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       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--- Margaret Wheatley, 2002, p. 3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             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Turning To One Another: Simple Conversations Restore 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Hope to the Future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1:56:14Z</dcterms:created>
  <dc:creator>Nancy Blair</dc:creator>
  <dc:description/>
  <dc:language>en-US</dc:language>
  <cp:lastModifiedBy>ndmarsho</cp:lastModifiedBy>
  <dcterms:modified xsi:type="dcterms:W3CDTF">2008-11-04T18:07:30Z</dcterms:modified>
  <cp:revision>3</cp:revision>
  <dc:subject/>
  <dc:title>          Dialogue   is a process in which people engage in   conversations where they openly share their   views and develop knowledge about each other’s assumptions.   </dc:title>
</cp:coreProperties>
</file>