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2A8-0DC9-47CB-8A4F-E712D216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99D-A909-4333-92BF-E50DC9A4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5D0-B4B2-4D7C-A7F8-D62108EA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48B-CA67-4D88-87E8-D5D2DF70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9B43-A34C-45E9-BBBA-576DB970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4BA1-854D-4201-88EA-B19D27A0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5D92-5735-4741-8204-7ED1E1B1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4BE3-F4E4-4D97-8181-E84FA6AD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020A-1D8F-4E31-BCB6-23D2BB86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977F-9538-4EAA-91D3-F56477A9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3649-D758-42D0-97F6-FC17F271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0D5-2177-4134-89AA-DD3A37BC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7152-99C5-4711-A406-B5BAEC8B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47E3-4F27-40CE-AEA9-3B2DAAD0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5FBB-B233-4F3F-A088-B6BAE9B9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C91C-BEA2-4C81-8BB9-D8ECBE67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5F55-97CF-4553-96E2-205264F2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F92-B3E5-4064-B713-82911829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31D-6840-4EC4-8EFD-E44B169A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9DE6-BB6E-4CA6-B37E-05A55F68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135-0ECB-4F34-B4B1-507BD2F4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537-8BA8-470C-8B47-694D42C9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205C-969E-484C-9C65-BE995B62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4867-DEC7-4C52-A730-82247051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9101-4A06-4C8C-AB64-2DA456E57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E4C4-03E9-41EC-9038-34A9E29ED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Dialogue</a:t>
            </a:r>
            <a:r>
              <a:rPr b="0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is a process in which people engage in conversations where they openly share their views and develop knowledge about each other’s assumption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Peter Senge, 1990, </a:t>
            </a:r>
            <a:r>
              <a:rPr b="0" i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The Fifth Discip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o engage in dialogue we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Are open and listen on multiple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Balance sharing our own ideas with listening and inqui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Suspend our ju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Promote shared mea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Adapted from Chris Argyris’s work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Overcoming Organizational Defenses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(199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 dialogue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we rid ourselves of think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our beliefs are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th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ru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he truth is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obv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our beliefs are based on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real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he data we select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rea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-- Chris Argyris, 1990,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Overcoming Organizational Def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I believe we can change the world if we start listening to one another again…Simple, truthful conversation where we each have a chance to speak, we each feel heard, and we each listen well… Human conversation is the most ancient and easiest way to cultivate the conditions for change.”</a:t>
            </a:r>
            <a:br>
              <a:rPr sz="36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       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--- Margaret Wheatley, 2002, p. 3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             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Turning To One Another: Simple Conversations Restore 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Hope to the Future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1:56:14Z</dcterms:created>
  <dc:creator>Nancy Blair</dc:creator>
  <dc:description/>
  <dc:language>en-US</dc:language>
  <cp:lastModifiedBy>ndmarsho</cp:lastModifiedBy>
  <dcterms:modified xsi:type="dcterms:W3CDTF">2008-11-04T18:07:30Z</dcterms:modified>
  <cp:revision>3</cp:revision>
  <dc:subject/>
  <dc:title>          Dialogue   is a process in which people engage in   conversations where they openly share their   views and develop knowledge about each other’s assumptions.   </dc:title>
</cp:coreProperties>
</file>