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F00-4C12-47DE-A348-A900BCD5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1AE-77A7-4D75-AF73-BDCD5B61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9EB-98CE-403A-BEF1-0B44A5E6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795-51DA-44B6-9304-D1E654B2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2B03-3977-4EBD-999C-C96737E3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0566-08DA-484D-8D9A-C96B9012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37FF-8B46-4B07-88A1-CFBCF0BC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5AE8-085F-4334-9263-6F0AFB68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6FD5-AF2A-41A6-BE17-2235AA1C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F827-49E9-42E1-A962-2B07250D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2AE9-F436-4D4C-94A4-E9DF2D54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331-842B-4A8D-A22E-BEAA371B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F149-4B81-4107-8B08-9B83E91E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C817-756E-4753-869C-9C50F09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875C-AD6A-40C1-A58B-BD3CF6FE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C4BC-D3BE-439D-812E-B7BB5A8F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E488-DA89-4358-9516-D47CAB5B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126-7709-40EE-9D31-4DC21C1A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9D1-2957-40E7-BD50-04714691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815-42E9-44FB-AD4E-F78BE43A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81F-6C1D-43D9-8380-022C70A5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DDF-7180-4C22-94A2-D4F00364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192-C78C-4692-8D96-518E52A5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21D-A8D4-45A2-9712-91F632ED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6721-B1A9-4BCD-8631-6A5149F55D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1B39-8879-4B78-BD27-071A472277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ilesharingtalk.com/vb3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concep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Reindeer Job Evaluation"/>
          <p:cNvPicPr/>
          <p:nvPr/>
        </p:nvPicPr>
        <p:blipFill>
          <a:blip r:embed="rId1"/>
          <a:stretch/>
        </p:blipFill>
        <p:spPr>
          <a:xfrm>
            <a:off x="2133720" y="0"/>
            <a:ext cx="519912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biguous Communi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b Evaluation Euphemisms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83772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 PERSONALITY =&gt; Always going out of th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OMMUNICATION SKILLS =&gt; Spends lots of time on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MPLOYEE =&gt; Not too b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LY WELL-QUALIFIED =&gt; Made no major blunders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WORKER =&gt; Nobody knows what he/she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THINKING =&gt; Offers plausible exc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FUL THINKER =&gt; Won’t make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SSIVE =&gt; Obnox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LOGIC ON DIFFICULT JOBS =&gt; Gets someone else to d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ICULOUS ATTENTION TO DETAIL =&gt; A nit pi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EADERSHIP QUALITIES =&gt; Is tall or has a loud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LY GOOD JUDGEMENT =&gt; L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ER MINDED =&gt; Back Sta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YAL =&gt; Can’t get a job anywhere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ck of Hones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Smith, my assistant 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program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an always be fou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 at work in his cubicle. Bob works independently,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ting company time talking to colleagues. Bob ne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s twice about assisting fellow employees, and he alway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shes given assignments on time. Often Bob takes extend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s to complete his work, sometimes skipping coff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s. Bob is a dedicated individual who has absolutely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ity in spite of his high accomplishments and profou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in his field. I firmly believe that Bob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d as a high-caliber employee, the type which cannot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nsed with. Consequently, I duly recommend that Bob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d to executive management, and a proposal will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d as soon as possibl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ject Lea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438280" y="388620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MO WAS SOON SENT FOLLOWING THE LETTER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diot was reading over my shoulder while I wrote the re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t to you earlier today. Kindly read only the odd numbered l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 3, 5, 7,..) for my true assessment of h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 is it just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os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The Office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6400800" cy="440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21:20:05Z</dcterms:created>
  <dc:creator>ZGS</dc:creator>
  <dc:description/>
  <dc:language>en-US</dc:language>
  <cp:lastModifiedBy>zgs</cp:lastModifiedBy>
  <dcterms:modified xsi:type="dcterms:W3CDTF">2009-12-10T19:24:26Z</dcterms:modified>
  <cp:revision>5</cp:revision>
  <dc:subject/>
  <dc:title>Why do Evaluations Fail?</dc:title>
</cp:coreProperties>
</file>