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C92-8ACB-40FE-BF01-376C2A1F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A21-BA42-43E9-8FD7-9E2D7685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513-DF07-40EF-8441-3CB95A11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168-B9B8-473B-A825-04369CDD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ABA9-ED82-46A1-A17F-34A7098F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3468-5E1F-470B-8397-A2658157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75D0-3390-48CD-A9B7-9A2A5EAF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77F9-452F-49AD-AFC6-D6B021A4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B9D5-A4F8-4527-BB72-9E043101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A309-ECC5-4223-B881-78F84F4E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98B5-BC6F-460F-BAB3-23470CD0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B56-8CE9-4360-9F39-9379CC4C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800C-2963-4A1D-8DDD-E8211515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9832-8965-4EE0-BF25-A4AD181E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CAA5-A606-4DF6-A753-E36B6CC5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B90F-4A63-4CD7-A293-8B633F35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F3F8-B562-4003-91C5-E724F32B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FDA-7F34-400F-82E3-03BC4FA7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115-216F-4D89-9BC1-25EB49CB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1D3-FB2D-4C14-BA3C-AABB1908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24A-77C6-4F23-822D-3937F230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59B6-1453-46F1-BDD6-A290D75B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CA0-4B5A-4D3B-BCEA-5533ADE9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135-93BA-488D-A0CD-91B4E048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C54C-70D6-4370-A98A-9BA296FBCF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A7BD-2712-4067-B8AA-D9DCBC6F1F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ilesharingtalk.com/vb3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concep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Reindeer Job Evaluation"/>
          <p:cNvPicPr/>
          <p:nvPr/>
        </p:nvPicPr>
        <p:blipFill>
          <a:blip r:embed="rId1"/>
          <a:stretch/>
        </p:blipFill>
        <p:spPr>
          <a:xfrm>
            <a:off x="2133720" y="0"/>
            <a:ext cx="519912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mbiguous Communic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b Evaluation Euphemisms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83772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 PERSONALITY =&gt; Always going out of the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COMMUNICATION SKILLS =&gt; Spends lots of time on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MPLOYEE =&gt; Not too b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ALLY WELL-QUALIFIED =&gt; Made no major blunders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WORKER =&gt; Nobody knows what he/she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THINKING =&gt; Offers plausible exc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FUL THINKER =&gt; Won’t make 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SSIVE =&gt; Obnox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LOGIC ON DIFFICULT JOBS =&gt; Gets someone else to d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ICULOUS ATTENTION TO DETAIL =&gt; A nit pi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LEADERSHIP QUALITIES =&gt; Is tall or has a loud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ALLY GOOD JUDGEMENT =&gt; L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ER MINDED =&gt; Back Sta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YAL =&gt; Can’t get a job anywhere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ck of Honest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362320" y="2286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 Smith, my assistant 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program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an always be fou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 at work in his cubicle. Bob works independently,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ting company time talking to colleagues. Bob ne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ks twice about assisting fellow employees, and he alway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shes given assignments on time. Often Bob takes extend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s to complete his work, sometimes skipping coffe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s. Bob is a dedicated individual who has absolutely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ity in spite of his high accomplishments and profou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in his field. I firmly believe that Bob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ed as a high-caliber employee, the type which cannot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nsed with. Consequently, I duly recommend that Bob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ed to executive management, and a proposal will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d as soon as possibl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ject Lea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438280" y="388620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MO WAS SOON SENT FOLLOWING THE LETTER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diot was reading over my shoulder while I wrote the re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t to you earlier today. Kindly read only the odd numbered l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 3, 5, 7,..) for my true assessment of h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 is it just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os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The Office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6400800" cy="440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21:20:05Z</dcterms:created>
  <dc:creator>ZGS</dc:creator>
  <dc:description/>
  <dc:language>en-US</dc:language>
  <cp:lastModifiedBy>zgs</cp:lastModifiedBy>
  <dcterms:modified xsi:type="dcterms:W3CDTF">2009-12-10T19:24:26Z</dcterms:modified>
  <cp:revision>5</cp:revision>
  <dc:subject/>
  <dc:title>Why do Evaluations Fail?</dc:title>
</cp:coreProperties>
</file>