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AA5-4BD0-4703-A93A-945CBBDA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8BB-550F-488A-A82C-3A22CFD9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F05-1651-4EBC-857A-76B7F27A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1B2-B3F9-4F58-8D02-AF174E7D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3514-6811-4092-9813-F10936C7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5D09-958D-4CBF-B30B-D536709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EC11-F981-4F07-928E-FF4B7E9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DDAE-5B2A-49B8-AFEA-97CE8A6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5D59-C862-4DDF-AD2F-17148AB6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3905-BDC6-41F0-87CB-16533EB1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12E5-7D5B-4C42-8773-DE219E9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748-ECC5-4D6E-9FBA-F034351A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2C8-E8C0-4A61-8E84-AEC2DE29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721E-4E9B-47DD-A584-643C6E0F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7FFB-67AD-4C00-B85D-3577CDA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36D9-700E-438B-867D-225BBCF7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5CB0-D4B8-4DC0-8909-39B20760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0E4-950E-48A7-AAB8-31A27D21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9C7-4342-49F3-B184-989029BA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B79-5BDD-4C73-A0F1-A3FE2F55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4C2-5595-49CA-8D28-449A9AB1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905-ACD7-4B2C-8AF1-0D0AD14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20E-58BE-4489-A736-1D63116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AC6-4E6D-4DC7-BAD7-3506A11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F79-800C-4735-AD14-1FBBBED845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8074-8F2F-4D71-B181-AA20A9C442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lesharingtalk.com/vb3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concep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Reindeer Job Evaluation"/>
          <p:cNvPicPr/>
          <p:nvPr/>
        </p:nvPicPr>
        <p:blipFill>
          <a:blip r:embed="rId1"/>
          <a:stretch/>
        </p:blipFill>
        <p:spPr>
          <a:xfrm>
            <a:off x="2133720" y="0"/>
            <a:ext cx="51991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biguous Commun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b Evaluation Euphemism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83772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 PERSONALITY =&gt; Always going out of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OMMUNICATION SKILLS =&gt; Spends lots of time on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PLOYEE =&gt; Not too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WELL-QUALIFIED =&gt; Made no major blunders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WORKER =&gt; Nobody knows what he/sh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THINKING =&gt; Offers plausible exc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THINKER =&gt; Won’t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=&gt;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LOGIC ON DIFFICULT JOBS =&gt; Gets someone else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ICULOUS ATTENTION TO DETAIL =&gt; A nit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EADERSHIP QUALITIES =&gt; Is tall or has a loud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GOOD JUDGEMENT =&gt; L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ER MINDED =&gt; Back Sta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AL =&gt; Can’t get a job any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ck of Hones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Smith, my assistant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program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always be 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at work in his cubicle. Bob works independently,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ting company time talking to colleagues. Bob ne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twice about assisting fellow employees, and he alwa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s given assignments on time. Often Bob takes exten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s to complete his work, sometimes skipping coff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s. Bob is a dedicated individual who has absolutely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ity in spite of his high accomplishments and pro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in his field. I firmly believe that Bob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d as a high-caliber employee, the type which cannot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nsed with. Consequently, I duly recommend that Bob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executive management, and a proposal will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d as soon as possib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ject Lea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438280" y="3886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O WAS SOON SENT FOLLOWING THE LETTER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diot was reading over my shoulder while I wrote the re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to you earlier today. Kindly read only the odd numbered l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3, 5, 7,..) for my true assessment of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is it jus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s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The Office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64008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1:20:05Z</dcterms:created>
  <dc:creator>ZGS</dc:creator>
  <dc:description/>
  <dc:language>en-US</dc:language>
  <cp:lastModifiedBy>zgs</cp:lastModifiedBy>
  <dcterms:modified xsi:type="dcterms:W3CDTF">2009-12-10T19:24:26Z</dcterms:modified>
  <cp:revision>5</cp:revision>
  <dc:subject/>
  <dc:title>Why do Evaluations Fail?</dc:title>
</cp:coreProperties>
</file>