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2420-B96A-43AA-9949-B9C3404B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07C6-8F84-49C4-B761-98DF13F5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F06E-E252-4D7E-813E-606F58DC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C40F-35D2-456E-BCDC-AD170152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AFCD-F10A-4E7D-B96B-56EA15E2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32FA-3840-4EA7-8495-47F0F308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E72B-4C99-481A-9D9F-796D79C5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A14D-5566-446F-BE6D-621B2A1D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E40E-7C94-497B-B8F6-C514A8BE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7ED5-73F3-49CD-9203-303D400A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3931-2E1C-452B-B810-86706733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677A-2717-46AA-A1BE-6F046D41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4DD3-24F7-4FBA-B6A9-2767E386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0ECC-76B0-40FC-A09D-DD7F6B33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3E51-5C57-4E14-83F6-D40AE154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ED14-468D-4A78-A1BA-F79DBED7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E52B-01A6-4312-86C9-F50C68BF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761D-DB84-49BC-8DA0-092E7A94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AE5-0628-40D7-B589-73F7526A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0B4-EF31-4DB0-8283-05BD074D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D9D3-028C-45C9-A43D-4BD4DF46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2BC-4AD4-4085-8E3E-0054EFD1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2550-CC56-4A09-913F-BDD0FBF4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5EF-6471-4AB5-AB2E-9C4F9B95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7B21-6682-4B56-8ACE-431098867F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6C14-C6EE-4212-801E-70081E1098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ilesharingtalk.com/vb3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do Evaluations Fail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8280" y="2508120"/>
            <a:ext cx="6400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concep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Reindeer Job Evaluation"/>
          <p:cNvPicPr/>
          <p:nvPr/>
        </p:nvPicPr>
        <p:blipFill>
          <a:blip r:embed="rId1"/>
          <a:stretch/>
        </p:blipFill>
        <p:spPr>
          <a:xfrm>
            <a:off x="2133720" y="0"/>
            <a:ext cx="5199120" cy="64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do Evaluations Fail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2508120"/>
            <a:ext cx="6400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mbiguous Communicat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ob Evaluation Euphemisms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83772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 PERSONALITY =&gt; Always going out of the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COMMUNICATION SKILLS =&gt; Spends lots of time on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EMPLOYEE =&gt; Not too b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ALLY WELL-QUALIFIED =&gt; Made no major blunders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WORKER =&gt; Nobody knows what he/she d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 THINKING =&gt; Offers plausible exc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EFUL THINKER =&gt; Won’t make a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SSIVE =&gt; Obnox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LOGIC ON DIFFICULT JOBS =&gt; Gets someone else to d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ICULOUS ATTENTION TO DETAIL =&gt; A nit pi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LEADERSHIP QUALITIES =&gt; Is tall or has a loud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ALLY GOOD JUDGEMENT =&gt; Lu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EER MINDED =&gt; Back Stab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YAL =&gt; Can’t get a job anywhere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do Evaluations Fail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2508120"/>
            <a:ext cx="6400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ck of Honest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362320" y="2286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 Smith, my assistant </a:t>
            </a:r>
            <a:r>
              <a:rPr b="0" lang="en-US" sz="16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program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an always be fou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 at work in his cubicle. Bob works independently, witho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ting company time talking to colleagues. Bob ne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nks twice about assisting fellow employees, and he alway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shes given assignments on time. Often Bob takes extend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ures to complete his work, sometimes skipping coffe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s. Bob is a dedicated individual who has absolutely 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ity in spite of his high accomplishments and profou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in his field. I firmly believe that Bob can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ed as a high-caliber employee, the type which cannot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ensed with. Consequently, I duly recommend that Bob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ed to executive management, and a proposal will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d as soon as possibl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ject Lea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438280" y="388620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EMO WAS SOON SENT FOLLOWING THE LETTER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idiot was reading over my shoulder while I wrote the re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t to you earlier today. Kindly read only the odd numbered l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 3, 5, 7,..) for my true assessment of h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do Evaluations Fail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2508120"/>
            <a:ext cx="6400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r is it just th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os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The Office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6400800" cy="440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21:20:05Z</dcterms:created>
  <dc:creator>ZGS</dc:creator>
  <dc:description/>
  <dc:language>en-US</dc:language>
  <cp:lastModifiedBy>zgs</cp:lastModifiedBy>
  <dcterms:modified xsi:type="dcterms:W3CDTF">2009-12-10T19:24:26Z</dcterms:modified>
  <cp:revision>5</cp:revision>
  <dc:subject/>
  <dc:title>Why do Evaluations Fail?</dc:title>
</cp:coreProperties>
</file>