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098-48CB-44F1-9F08-0616B315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021-1BAA-4D9D-B29E-1155B74E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03D-D3F7-4FFA-89C8-6FA75D5C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CE8-3F9E-434D-9170-3BB4A913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59BC-C1CA-40D5-AFF4-2CD7B685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8CAE-81B7-4E3B-BE90-BE854DD0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668-4610-411B-BF8C-26FDC23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29B4-D5E6-4674-AE90-C533C810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FC1-CC3C-4850-81E4-73E604D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A3E-FC93-4998-88AA-2F0F57E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9B3-8578-4DD7-9390-A98A622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EE5-FB37-4458-9D4C-9C87EF3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EF8-34B7-446D-942D-A175873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43A0-AFA9-4372-87A2-B35BFA3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7E8B-B2EA-40B1-AAEA-5A0BD16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EE9-B11E-40C3-B410-E2BA0878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422C-67CD-4D14-8964-40C01A86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193-7426-48F5-82A6-53F5C69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2A3-5532-4E0A-8522-0F205635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E38-0D18-4C22-85CF-9269D30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7E2-B52C-4179-B402-4D413BAE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CB4-03CE-4107-BA30-A5F36C6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11E-762C-4381-AEC3-91AE0B8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C08-71EF-4964-9A5E-AD059FE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6C1-FD17-499F-8BF8-C1ED5DB062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91A-D105-4B9C-8322-41EB03077A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haringtalk.com/vb3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concep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Reindeer Job Evaluation"/>
          <p:cNvPicPr/>
          <p:nvPr/>
        </p:nvPicPr>
        <p:blipFill>
          <a:blip r:embed="rId1"/>
          <a:stretch/>
        </p:blipFill>
        <p:spPr>
          <a:xfrm>
            <a:off x="2133720" y="0"/>
            <a:ext cx="51991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mbiguous Commun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b Evaluation Euphemism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83772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 PERSONALITY =&gt; Always going out of th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OMMUNICATION SKILLS =&gt; Spends lots of time on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PLOYEE =&gt; Not too b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WELL-QUALIFIED =&gt; Made no major blunders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WORKER =&gt; Nobody knows what he/she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THINKING =&gt; Offers plausible exc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THINKER =&gt; Won’t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=&gt;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LOGIC ON DIFFICULT JOBS =&gt; Gets someone else to d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ICULOUS ATTENTION TO DETAIL =&gt; A nit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EADERSHIP QUALITIES =&gt; Is tall or has a loud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ALLY GOOD JUDGEMENT =&gt; L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ER MINDED =&gt; Back Sta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AL =&gt; Can’t get a job any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ck of Hones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Smith, my assistant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program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always be 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at work in his cubicle. Bob works independently, witho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ting company time talking to colleagues. Bob ne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twice about assisting fellow employees, and he alw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s given assignments on time. Often Bob takes exten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 to complete his work, sometimes skipping coff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s. Bob is a dedicated individual who has absolutely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ity in spite of his high accomplishments and profo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in his field. I firmly believe that Bob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d as a high-caliber employee, the type which cannot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nsed with. Consequently, I duly recommend that Bob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d to executive management, and a proposal will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d as soon as possibl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ject Lea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38280" y="3886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MO WAS SOON SENT FOLLOWING THE LETTER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diot was reading over my shoulder while I wrote the re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t to you earlier today. Kindly read only the odd numbered l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3, 5, 7,..) for my true assessment of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do Evaluations Fail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508120"/>
            <a:ext cx="6400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is it just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39"/>
                </a:solidFill>
                <a:latin typeface="Arial"/>
              </a:rPr>
              <a:t>The Office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4008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1:20:05Z</dcterms:created>
  <dc:creator>ZGS</dc:creator>
  <dc:description/>
  <dc:language>en-US</dc:language>
  <cp:lastModifiedBy>zgs</cp:lastModifiedBy>
  <dcterms:modified xsi:type="dcterms:W3CDTF">2009-12-10T19:24:26Z</dcterms:modified>
  <cp:revision>5</cp:revision>
  <dc:subject/>
  <dc:title>Why do Evaluations Fail?</dc:title>
</cp:coreProperties>
</file>